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D33-C756-4531-BE9F-A543084E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0B42-86D0-4DB0-A1C1-492AFBF9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8C0-173F-40A3-AB68-A39E6118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F9FC-3109-4152-8CCF-7A1D4038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7232-52D8-47A1-8D2F-2466B04A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C297-35CE-477B-928E-0D429AD9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F67B-E2A4-471A-9108-700D1FB6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4C3A-DE80-4691-97C2-4B80BCAE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0265-A2AB-4727-BEA4-E91887F5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B3CF-E2DC-4A85-8B21-95484783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ACD8-44A6-4916-9E65-82A5581F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74E5-03BE-42D9-9436-30186C06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8"/>
            </a:gs>
            <a:gs pos="50000">
              <a:srgbClr val="660033"/>
            </a:gs>
            <a:gs pos="100000">
              <a:srgbClr val="2f00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313F-D882-49A6-BC94-1E743CEDAAE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552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D4E3-8E09-417D-AA78-A1EEAD0E1F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3B83-F6C5-4DBD-A6D5-C4E3A1C15FE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Footer Placeholder 4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Slide Number Placeholder 5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06CC-A465-44E0-BBD4-37A511FBF8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348000" y="1665360"/>
            <a:ext cx="2268720" cy="2268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Angular Kinematics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49400" y="4016520"/>
            <a:ext cx="7410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ngular motion occurs when all points on an object move in circular paths about the same fixed axis.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195560" y="562284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Rounded MT Bold"/>
              </a:rPr>
              <a:t>Chapter 6 in the 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Oval 5"/>
          <p:cNvSpPr/>
          <p:nvPr/>
        </p:nvSpPr>
        <p:spPr>
          <a:xfrm>
            <a:off x="4356000" y="1521000"/>
            <a:ext cx="287280" cy="287280"/>
          </a:xfrm>
          <a:prstGeom prst="ellipse">
            <a:avLst/>
          </a:prstGeom>
          <a:solidFill>
            <a:srgbClr val="0066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4427640" y="2743200"/>
            <a:ext cx="109440" cy="1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8C90-E409-408E-A457-B4E46533F69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F799-FDB9-41A5-9DFA-2C07C5BD93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37" descr="Golf Club Angular Velocity Slide"/>
          <p:cNvPicPr/>
          <p:nvPr/>
        </p:nvPicPr>
        <p:blipFill>
          <a:blip r:embed="rId1"/>
          <a:stretch/>
        </p:blipFill>
        <p:spPr>
          <a:xfrm rot="9474600">
            <a:off x="75960" y="1447560"/>
            <a:ext cx="3801960" cy="749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99720"/>
            <a:ext cx="7772400" cy="66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Georgia"/>
              </a:rPr>
              <a:t>Points on Golf Club</a:t>
            </a:r>
            <a:endParaRPr b="0" lang="en-US" sz="40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4294080" y="1636560"/>
            <a:ext cx="477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The clubhead moves a longer distance (arc length) in the same time.  Therefore, it must have a higher linear velocity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179280" y="4427640"/>
            <a:ext cx="208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 Rounded MT Bold"/>
              </a:rPr>
              <a:t>The longer the club, the faster the linear velocity of the head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4881960" y="4195800"/>
            <a:ext cx="5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n-US" sz="2400" spc="-1" strike="noStrike" baseline="-6000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Group 62"/>
          <p:cNvGrpSpPr/>
          <p:nvPr/>
        </p:nvGrpSpPr>
        <p:grpSpPr>
          <a:xfrm>
            <a:off x="3848040" y="3519360"/>
            <a:ext cx="852480" cy="749520"/>
            <a:chOff x="3848040" y="3519360"/>
            <a:chExt cx="852480" cy="749520"/>
          </a:xfrm>
        </p:grpSpPr>
        <p:sp>
          <p:nvSpPr>
            <p:cNvPr id="144" name="Freeform 24"/>
            <p:cNvSpPr/>
            <p:nvPr/>
          </p:nvSpPr>
          <p:spPr>
            <a:xfrm>
              <a:off x="3848040" y="3537000"/>
              <a:ext cx="738360" cy="8244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65" h="52">
                  <a:moveTo>
                    <a:pt x="0" y="52"/>
                  </a:moveTo>
                  <a:lnTo>
                    <a:pt x="465" y="0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25"/>
            <p:cNvSpPr/>
            <p:nvPr/>
          </p:nvSpPr>
          <p:spPr>
            <a:xfrm>
              <a:off x="4595760" y="3519360"/>
              <a:ext cx="104760" cy="7495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749520"/>
                <a:gd name="textAreaBottom" fmla="*/ 749880 h 749520"/>
              </a:gdLst>
              <a:ahLst/>
              <a:rect l="textAreaLeft" t="textAreaTop" r="textAreaRight" b="textAreaBottom"/>
              <a:pathLst>
                <a:path w="66" h="472">
                  <a:moveTo>
                    <a:pt x="0" y="0"/>
                  </a:moveTo>
                  <a:lnTo>
                    <a:pt x="66" y="472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Group 59"/>
          <p:cNvGrpSpPr/>
          <p:nvPr/>
        </p:nvGrpSpPr>
        <p:grpSpPr>
          <a:xfrm>
            <a:off x="3600360" y="944640"/>
            <a:ext cx="2532240" cy="459720"/>
            <a:chOff x="3600360" y="944640"/>
            <a:chExt cx="2532240" cy="459720"/>
          </a:xfrm>
        </p:grpSpPr>
        <p:sp>
          <p:nvSpPr>
            <p:cNvPr id="147" name="Text Box 34"/>
            <p:cNvSpPr/>
            <p:nvPr/>
          </p:nvSpPr>
          <p:spPr>
            <a:xfrm>
              <a:off x="4101840" y="944640"/>
              <a:ext cx="203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xis of ro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Line 35"/>
            <p:cNvSpPr/>
            <p:nvPr/>
          </p:nvSpPr>
          <p:spPr>
            <a:xfrm flipV="1">
              <a:off x="3672000" y="1233360"/>
              <a:ext cx="468360" cy="60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Oval 36"/>
            <p:cNvSpPr/>
            <p:nvPr/>
          </p:nvSpPr>
          <p:spPr>
            <a:xfrm>
              <a:off x="3600360" y="1233360"/>
              <a:ext cx="152640" cy="15264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Group 60"/>
          <p:cNvGrpSpPr/>
          <p:nvPr/>
        </p:nvGrpSpPr>
        <p:grpSpPr>
          <a:xfrm>
            <a:off x="351000" y="1557360"/>
            <a:ext cx="2697120" cy="944640"/>
            <a:chOff x="351000" y="1557360"/>
            <a:chExt cx="2697120" cy="944640"/>
          </a:xfrm>
        </p:grpSpPr>
        <p:sp>
          <p:nvSpPr>
            <p:cNvPr id="151" name="Oval 38"/>
            <p:cNvSpPr/>
            <p:nvPr/>
          </p:nvSpPr>
          <p:spPr>
            <a:xfrm>
              <a:off x="2895480" y="1557360"/>
              <a:ext cx="152640" cy="1522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Oval 39"/>
            <p:cNvSpPr/>
            <p:nvPr/>
          </p:nvSpPr>
          <p:spPr>
            <a:xfrm>
              <a:off x="351000" y="2349360"/>
              <a:ext cx="152280" cy="152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" name="Freeform 41"/>
          <p:cNvSpPr/>
          <p:nvPr/>
        </p:nvSpPr>
        <p:spPr>
          <a:xfrm>
            <a:off x="3959280" y="4235400"/>
            <a:ext cx="1044360" cy="131760"/>
          </a:xfrm>
          <a:custGeom>
            <a:avLst/>
            <a:gdLst>
              <a:gd name="textAreaLeft" fmla="*/ 0 w 1044360"/>
              <a:gd name="textAreaRight" fmla="*/ 1044720 w 10443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596" h="75">
                <a:moveTo>
                  <a:pt x="0" y="75"/>
                </a:moveTo>
                <a:lnTo>
                  <a:pt x="596" y="0"/>
                </a:ln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Group 61"/>
          <p:cNvGrpSpPr/>
          <p:nvPr/>
        </p:nvGrpSpPr>
        <p:grpSpPr>
          <a:xfrm>
            <a:off x="-301320" y="-32400"/>
            <a:ext cx="6500880" cy="5410440"/>
            <a:chOff x="-301320" y="-32400"/>
            <a:chExt cx="6500880" cy="5410440"/>
          </a:xfrm>
        </p:grpSpPr>
        <p:pic>
          <p:nvPicPr>
            <p:cNvPr id="155" name="Picture 40" descr="Golf Club Angular Velocity Slide 2"/>
            <p:cNvPicPr/>
            <p:nvPr/>
          </p:nvPicPr>
          <p:blipFill>
            <a:blip r:embed="rId2"/>
            <a:stretch/>
          </p:blipFill>
          <p:spPr>
            <a:xfrm>
              <a:off x="3417840" y="1233360"/>
              <a:ext cx="685800" cy="327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Oval 30"/>
            <p:cNvSpPr/>
            <p:nvPr/>
          </p:nvSpPr>
          <p:spPr>
            <a:xfrm>
              <a:off x="3879720" y="42847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Oval 31"/>
            <p:cNvSpPr/>
            <p:nvPr/>
          </p:nvSpPr>
          <p:spPr>
            <a:xfrm>
              <a:off x="3635280" y="1952640"/>
              <a:ext cx="152640" cy="1522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Arc 33"/>
            <p:cNvSpPr/>
            <p:nvPr/>
          </p:nvSpPr>
          <p:spPr>
            <a:xfrm flipH="1" flipV="1">
              <a:off x="2951280" y="1484280"/>
              <a:ext cx="776160" cy="533520"/>
            </a:xfrm>
            <a:custGeom>
              <a:avLst/>
              <a:gdLst>
                <a:gd name="textAreaLeft" fmla="*/ 360 w 776160"/>
                <a:gd name="textAreaRight" fmla="*/ 776880 w 776160"/>
                <a:gd name="textAreaTop" fmla="*/ 360 h 533520"/>
                <a:gd name="textAreaBottom" fmla="*/ 534240 h 533520"/>
              </a:gdLst>
              <a:ahLst/>
              <a:rect l="textAreaLeft" t="textAreaTop" r="textAreaRight" b="textAreaBottom"/>
              <a:pathLst>
                <a:path fill="none" w="21471" h="21600">
                  <a:moveTo>
                    <a:pt x="-1" y="0"/>
                  </a:moveTo>
                  <a:cubicBezTo>
                    <a:pt x="11015" y="0"/>
                    <a:pt x="20266" y="8289"/>
                    <a:pt x="21470" y="19239"/>
                  </a:cubicBezTo>
                </a:path>
                <a:path stroke="0" w="21471" h="21600">
                  <a:moveTo>
                    <a:pt x="-1" y="0"/>
                  </a:moveTo>
                  <a:cubicBezTo>
                    <a:pt x="11015" y="0"/>
                    <a:pt x="20266" y="8289"/>
                    <a:pt x="21470" y="1923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Arc 32"/>
            <p:cNvSpPr/>
            <p:nvPr/>
          </p:nvSpPr>
          <p:spPr>
            <a:xfrm flipH="1" flipV="1" rot="1582800">
              <a:off x="123120" y="1054080"/>
              <a:ext cx="5651640" cy="3236400"/>
            </a:xfrm>
            <a:custGeom>
              <a:avLst/>
              <a:gdLst>
                <a:gd name="textAreaLeft" fmla="*/ -360 w 5651640"/>
                <a:gd name="textAreaRight" fmla="*/ 5651640 w 5651640"/>
                <a:gd name="textAreaTop" fmla="*/ 360 h 3236400"/>
                <a:gd name="textAreaBottom" fmla="*/ 3237120 h 3236400"/>
              </a:gdLst>
              <a:ahLst/>
              <a:rect l="textAreaLeft" t="textAreaTop" r="textAreaRight" b="textAreaBottom"/>
              <a:pathLst>
                <a:path fill="none" w="36246" h="21600">
                  <a:moveTo>
                    <a:pt x="-1" y="12708"/>
                  </a:moveTo>
                  <a:cubicBezTo>
                    <a:pt x="3494" y="4972"/>
                    <a:pt x="11195" y="-1"/>
                    <a:pt x="19685" y="0"/>
                  </a:cubicBezTo>
                  <a:cubicBezTo>
                    <a:pt x="26077" y="0"/>
                    <a:pt x="32141" y="2831"/>
                    <a:pt x="36245" y="7733"/>
                  </a:cubicBezTo>
                </a:path>
                <a:path stroke="0" w="36246" h="21600">
                  <a:moveTo>
                    <a:pt x="-1" y="12708"/>
                  </a:moveTo>
                  <a:cubicBezTo>
                    <a:pt x="3494" y="4972"/>
                    <a:pt x="11195" y="-1"/>
                    <a:pt x="19685" y="0"/>
                  </a:cubicBezTo>
                  <a:cubicBezTo>
                    <a:pt x="26077" y="0"/>
                    <a:pt x="32141" y="2831"/>
                    <a:pt x="36245" y="7733"/>
                  </a:cubicBezTo>
                  <a:lnTo>
                    <a:pt x="19685" y="21600"/>
                  </a:lnTo>
                  <a:lnTo>
                    <a:pt x="-1" y="12708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Freeform 44"/>
          <p:cNvSpPr/>
          <p:nvPr/>
        </p:nvSpPr>
        <p:spPr>
          <a:xfrm>
            <a:off x="2786040" y="4281480"/>
            <a:ext cx="1871640" cy="2332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179" h="147">
                <a:moveTo>
                  <a:pt x="1179" y="0"/>
                </a:moveTo>
                <a:lnTo>
                  <a:pt x="0" y="147"/>
                </a:lnTo>
              </a:path>
            </a:pathLst>
          </a:custGeom>
          <a:noFill/>
          <a:ln w="2844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65"/>
          <p:cNvGrpSpPr/>
          <p:nvPr/>
        </p:nvGrpSpPr>
        <p:grpSpPr>
          <a:xfrm>
            <a:off x="2556000" y="3875040"/>
            <a:ext cx="6408720" cy="2506680"/>
            <a:chOff x="2556000" y="3875040"/>
            <a:chExt cx="6408720" cy="2506680"/>
          </a:xfrm>
        </p:grpSpPr>
        <p:sp>
          <p:nvSpPr>
            <p:cNvPr id="162" name="Text Box 18"/>
            <p:cNvSpPr/>
            <p:nvPr/>
          </p:nvSpPr>
          <p:spPr>
            <a:xfrm>
              <a:off x="2556000" y="4905360"/>
              <a:ext cx="6408720" cy="14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Rounded MT Bold"/>
                </a:rPr>
                <a:t>The instantaneous linear velocity (V</a:t>
              </a:r>
              <a:r>
                <a:rPr b="0" lang="en-US" sz="2200" spc="-1" strike="noStrike" baseline="-16000">
                  <a:solidFill>
                    <a:srgbClr val="ffffff"/>
                  </a:solidFill>
                  <a:latin typeface="Arial Rounded MT Bold"/>
                </a:rPr>
                <a:t>T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 Rounded MT Bold"/>
                </a:rPr>
                <a:t>) is equal to the instantaneous angular velocity times the radius. V</a:t>
              </a:r>
              <a:r>
                <a:rPr b="0" lang="en-US" sz="2200" spc="-1" strike="noStrike" baseline="-16000">
                  <a:solidFill>
                    <a:srgbClr val="ffffff"/>
                  </a:solidFill>
                  <a:latin typeface="Arial Rounded MT Bold"/>
                </a:rPr>
                <a:t>T 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 Rounded MT Bold"/>
                </a:rPr>
                <a:t>, 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Arial Rounded MT Bold"/>
                </a:rPr>
                <a:t>the instantaneous speed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 Rounded MT Bold"/>
                </a:rPr>
                <a:t>, is at a tangent to the clubhead path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64"/>
                <p:cNvSpPr txBox="1"/>
                <p:nvPr/>
              </p:nvSpPr>
              <p:spPr>
                <a:xfrm>
                  <a:off x="6156360" y="3875040"/>
                  <a:ext cx="2089080" cy="88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ωr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CDB5-F178-478E-A994-157716EE10D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2922-B3FF-461F-A845-B3937000EB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99720"/>
            <a:ext cx="8461080" cy="66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eorgia"/>
              </a:rPr>
              <a:t>New (and convenient) Reference Frame</a:t>
            </a:r>
            <a:endParaRPr b="0" lang="en-US" sz="3600" spc="-1" strike="noStrike">
              <a:solidFill>
                <a:srgbClr val="ffcc00"/>
              </a:solidFill>
              <a:latin typeface="Georgia"/>
            </a:endParaRPr>
          </a:p>
        </p:txBody>
      </p:sp>
      <p:grpSp>
        <p:nvGrpSpPr>
          <p:cNvPr id="168" name="Group 43"/>
          <p:cNvGrpSpPr/>
          <p:nvPr/>
        </p:nvGrpSpPr>
        <p:grpSpPr>
          <a:xfrm>
            <a:off x="213840" y="981000"/>
            <a:ext cx="3045960" cy="1926360"/>
            <a:chOff x="213840" y="981000"/>
            <a:chExt cx="3045960" cy="1926360"/>
          </a:xfrm>
        </p:grpSpPr>
        <p:grpSp>
          <p:nvGrpSpPr>
            <p:cNvPr id="169" name="Group 35"/>
            <p:cNvGrpSpPr/>
            <p:nvPr/>
          </p:nvGrpSpPr>
          <p:grpSpPr>
            <a:xfrm>
              <a:off x="828720" y="1341360"/>
              <a:ext cx="1545840" cy="1566000"/>
              <a:chOff x="828720" y="1341360"/>
              <a:chExt cx="1545840" cy="1566000"/>
            </a:xfrm>
          </p:grpSpPr>
          <p:grpSp>
            <p:nvGrpSpPr>
              <p:cNvPr id="170" name="Group 32"/>
              <p:cNvGrpSpPr/>
              <p:nvPr/>
            </p:nvGrpSpPr>
            <p:grpSpPr>
              <a:xfrm>
                <a:off x="1224000" y="1428480"/>
                <a:ext cx="1150560" cy="1116000"/>
                <a:chOff x="1224000" y="1428480"/>
                <a:chExt cx="1150560" cy="1116000"/>
              </a:xfrm>
            </p:grpSpPr>
            <p:sp>
              <p:nvSpPr>
                <p:cNvPr id="171" name="Line 30"/>
                <p:cNvSpPr/>
                <p:nvPr/>
              </p:nvSpPr>
              <p:spPr>
                <a:xfrm flipV="1">
                  <a:off x="1224000" y="1428480"/>
                  <a:ext cx="0" cy="11160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31"/>
                <p:cNvSpPr/>
                <p:nvPr/>
              </p:nvSpPr>
              <p:spPr>
                <a:xfrm>
                  <a:off x="1224000" y="2544480"/>
                  <a:ext cx="11505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Text Box 33"/>
              <p:cNvSpPr/>
              <p:nvPr/>
            </p:nvSpPr>
            <p:spPr>
              <a:xfrm>
                <a:off x="1968120" y="2447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Text Box 34"/>
              <p:cNvSpPr/>
              <p:nvPr/>
            </p:nvSpPr>
            <p:spPr>
              <a:xfrm>
                <a:off x="828720" y="1341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5" name="Text Box 36"/>
            <p:cNvSpPr/>
            <p:nvPr/>
          </p:nvSpPr>
          <p:spPr>
            <a:xfrm>
              <a:off x="213840" y="981000"/>
              <a:ext cx="30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ixed Reference 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" name="Group 63"/>
          <p:cNvGrpSpPr/>
          <p:nvPr/>
        </p:nvGrpSpPr>
        <p:grpSpPr>
          <a:xfrm>
            <a:off x="1235880" y="1226160"/>
            <a:ext cx="6500880" cy="5410800"/>
            <a:chOff x="1235880" y="1226160"/>
            <a:chExt cx="6500880" cy="5410800"/>
          </a:xfrm>
        </p:grpSpPr>
        <p:grpSp>
          <p:nvGrpSpPr>
            <p:cNvPr id="177" name="Group 18"/>
            <p:cNvGrpSpPr/>
            <p:nvPr/>
          </p:nvGrpSpPr>
          <p:grpSpPr>
            <a:xfrm>
              <a:off x="1235880" y="1226160"/>
              <a:ext cx="6500880" cy="5410800"/>
              <a:chOff x="1235880" y="1226160"/>
              <a:chExt cx="6500880" cy="5410800"/>
            </a:xfrm>
          </p:grpSpPr>
          <p:pic>
            <p:nvPicPr>
              <p:cNvPr id="178" name="Picture 19" descr="Golf Club Angular Velocity Slide 2"/>
              <p:cNvPicPr/>
              <p:nvPr/>
            </p:nvPicPr>
            <p:blipFill>
              <a:blip r:embed="rId1"/>
              <a:stretch/>
            </p:blipFill>
            <p:spPr>
              <a:xfrm>
                <a:off x="4954320" y="2492280"/>
                <a:ext cx="685440" cy="32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Oval 20"/>
              <p:cNvSpPr/>
              <p:nvPr/>
            </p:nvSpPr>
            <p:spPr>
              <a:xfrm>
                <a:off x="5416200" y="5543640"/>
                <a:ext cx="152280" cy="1522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Oval 21"/>
              <p:cNvSpPr/>
              <p:nvPr/>
            </p:nvSpPr>
            <p:spPr>
              <a:xfrm>
                <a:off x="5171760" y="3211560"/>
                <a:ext cx="152280" cy="15228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Arc 22"/>
              <p:cNvSpPr/>
              <p:nvPr/>
            </p:nvSpPr>
            <p:spPr>
              <a:xfrm flipH="1" flipV="1">
                <a:off x="4487040" y="2743200"/>
                <a:ext cx="775800" cy="533520"/>
              </a:xfrm>
              <a:custGeom>
                <a:avLst/>
                <a:gdLst>
                  <a:gd name="textAreaLeft" fmla="*/ -360 w 775800"/>
                  <a:gd name="textAreaRight" fmla="*/ 775800 w 775800"/>
                  <a:gd name="textAreaTop" fmla="*/ 360 h 533520"/>
                  <a:gd name="textAreaBottom" fmla="*/ 534240 h 533520"/>
                </a:gdLst>
                <a:ahLst/>
                <a:rect l="textAreaLeft" t="textAreaTop" r="textAreaRight" b="textAreaBottom"/>
                <a:pathLst>
                  <a:path fill="none" w="21471" h="21600">
                    <a:moveTo>
                      <a:pt x="-1" y="0"/>
                    </a:moveTo>
                    <a:cubicBezTo>
                      <a:pt x="11015" y="0"/>
                      <a:pt x="20266" y="8289"/>
                      <a:pt x="21470" y="19239"/>
                    </a:cubicBezTo>
                  </a:path>
                  <a:path stroke="0" w="21471" h="21600">
                    <a:moveTo>
                      <a:pt x="-1" y="0"/>
                    </a:moveTo>
                    <a:cubicBezTo>
                      <a:pt x="11015" y="0"/>
                      <a:pt x="20266" y="8289"/>
                      <a:pt x="21470" y="1923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Arc 23"/>
              <p:cNvSpPr/>
              <p:nvPr/>
            </p:nvSpPr>
            <p:spPr>
              <a:xfrm flipH="1" flipV="1" rot="1582800">
                <a:off x="1660680" y="2313000"/>
                <a:ext cx="5651280" cy="3236760"/>
              </a:xfrm>
              <a:custGeom>
                <a:avLst/>
                <a:gdLst>
                  <a:gd name="textAreaLeft" fmla="*/ 360 w 5651280"/>
                  <a:gd name="textAreaRight" fmla="*/ 5652000 w 5651280"/>
                  <a:gd name="textAreaTop" fmla="*/ -360 h 3236760"/>
                  <a:gd name="textAreaBottom" fmla="*/ 3236760 h 3236760"/>
                </a:gdLst>
                <a:ahLst/>
                <a:rect l="textAreaLeft" t="textAreaTop" r="textAreaRight" b="textAreaBottom"/>
                <a:pathLst>
                  <a:path fill="none" w="36246" h="21600">
                    <a:moveTo>
                      <a:pt x="-1" y="12708"/>
                    </a:moveTo>
                    <a:cubicBezTo>
                      <a:pt x="3494" y="4972"/>
                      <a:pt x="11195" y="-1"/>
                      <a:pt x="19685" y="0"/>
                    </a:cubicBezTo>
                    <a:cubicBezTo>
                      <a:pt x="26077" y="0"/>
                      <a:pt x="32141" y="2831"/>
                      <a:pt x="36245" y="7733"/>
                    </a:cubicBezTo>
                  </a:path>
                  <a:path stroke="0" w="36246" h="21600">
                    <a:moveTo>
                      <a:pt x="-1" y="12708"/>
                    </a:moveTo>
                    <a:cubicBezTo>
                      <a:pt x="3494" y="4972"/>
                      <a:pt x="11195" y="-1"/>
                      <a:pt x="19685" y="0"/>
                    </a:cubicBezTo>
                    <a:cubicBezTo>
                      <a:pt x="26077" y="0"/>
                      <a:pt x="32141" y="2831"/>
                      <a:pt x="36245" y="7733"/>
                    </a:cubicBezTo>
                    <a:lnTo>
                      <a:pt x="19685" y="21600"/>
                    </a:lnTo>
                    <a:lnTo>
                      <a:pt x="-1" y="1270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Group 59"/>
            <p:cNvGrpSpPr/>
            <p:nvPr/>
          </p:nvGrpSpPr>
          <p:grpSpPr>
            <a:xfrm>
              <a:off x="1611360" y="2065320"/>
              <a:ext cx="6058080" cy="2124360"/>
              <a:chOff x="1611360" y="2065320"/>
              <a:chExt cx="6058080" cy="2124360"/>
            </a:xfrm>
          </p:grpSpPr>
          <p:pic>
            <p:nvPicPr>
              <p:cNvPr id="184" name="Picture 2" descr="Golf Club Angular Velocity Slide"/>
              <p:cNvPicPr/>
              <p:nvPr/>
            </p:nvPicPr>
            <p:blipFill>
              <a:blip r:embed="rId2"/>
              <a:stretch/>
            </p:blipFill>
            <p:spPr>
              <a:xfrm rot="9474600">
                <a:off x="1612800" y="2752560"/>
                <a:ext cx="3802320" cy="749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5" name="Group 14"/>
              <p:cNvGrpSpPr/>
              <p:nvPr/>
            </p:nvGrpSpPr>
            <p:grpSpPr>
              <a:xfrm>
                <a:off x="1887480" y="2852640"/>
                <a:ext cx="2697120" cy="944640"/>
                <a:chOff x="1887480" y="2852640"/>
                <a:chExt cx="2697120" cy="944640"/>
              </a:xfrm>
            </p:grpSpPr>
            <p:sp>
              <p:nvSpPr>
                <p:cNvPr id="186" name="Oval 15"/>
                <p:cNvSpPr/>
                <p:nvPr/>
              </p:nvSpPr>
              <p:spPr>
                <a:xfrm>
                  <a:off x="4431960" y="2852640"/>
                  <a:ext cx="152640" cy="152280"/>
                </a:xfrm>
                <a:prstGeom prst="ellipse">
                  <a:avLst/>
                </a:prstGeom>
                <a:solidFill>
                  <a:srgbClr val="0066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Oval 16"/>
                <p:cNvSpPr/>
                <p:nvPr/>
              </p:nvSpPr>
              <p:spPr>
                <a:xfrm>
                  <a:off x="1887480" y="3644640"/>
                  <a:ext cx="152280" cy="152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Group 10"/>
              <p:cNvGrpSpPr/>
              <p:nvPr/>
            </p:nvGrpSpPr>
            <p:grpSpPr>
              <a:xfrm>
                <a:off x="5137200" y="2241720"/>
                <a:ext cx="2532240" cy="459720"/>
                <a:chOff x="5137200" y="2241720"/>
                <a:chExt cx="2532240" cy="459720"/>
              </a:xfrm>
            </p:grpSpPr>
            <p:sp>
              <p:nvSpPr>
                <p:cNvPr id="189" name="Text Box 11"/>
                <p:cNvSpPr/>
                <p:nvPr/>
              </p:nvSpPr>
              <p:spPr>
                <a:xfrm>
                  <a:off x="5638680" y="2241720"/>
                  <a:ext cx="203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axis of rotatio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Line 12"/>
                <p:cNvSpPr/>
                <p:nvPr/>
              </p:nvSpPr>
              <p:spPr>
                <a:xfrm flipV="1">
                  <a:off x="5208840" y="2530440"/>
                  <a:ext cx="468360" cy="60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Oval 13"/>
                <p:cNvSpPr/>
                <p:nvPr/>
              </p:nvSpPr>
              <p:spPr>
                <a:xfrm>
                  <a:off x="5137200" y="2530440"/>
                  <a:ext cx="152640" cy="152640"/>
                </a:xfrm>
                <a:prstGeom prst="ellipse">
                  <a:avLst/>
                </a:prstGeom>
                <a:solidFill>
                  <a:srgbClr val="b2b2b2"/>
                </a:solidFill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2" name="Group 57"/>
          <p:cNvGrpSpPr/>
          <p:nvPr/>
        </p:nvGrpSpPr>
        <p:grpSpPr>
          <a:xfrm>
            <a:off x="1944720" y="3009960"/>
            <a:ext cx="1043280" cy="1947960"/>
            <a:chOff x="1944720" y="3009960"/>
            <a:chExt cx="1043280" cy="1947960"/>
          </a:xfrm>
        </p:grpSpPr>
        <p:grpSp>
          <p:nvGrpSpPr>
            <p:cNvPr id="193" name="Group 38"/>
            <p:cNvGrpSpPr/>
            <p:nvPr/>
          </p:nvGrpSpPr>
          <p:grpSpPr>
            <a:xfrm>
              <a:off x="1944720" y="3340800"/>
              <a:ext cx="1043280" cy="1472400"/>
              <a:chOff x="1944720" y="3340800"/>
              <a:chExt cx="1043280" cy="1472400"/>
            </a:xfrm>
          </p:grpSpPr>
          <p:sp>
            <p:nvSpPr>
              <p:cNvPr id="194" name="Line 39"/>
              <p:cNvSpPr/>
              <p:nvPr/>
            </p:nvSpPr>
            <p:spPr>
              <a:xfrm flipV="1">
                <a:off x="1944720" y="3340800"/>
                <a:ext cx="1043280" cy="396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Line 40"/>
              <p:cNvSpPr/>
              <p:nvPr/>
            </p:nvSpPr>
            <p:spPr>
              <a:xfrm>
                <a:off x="1944720" y="3737520"/>
                <a:ext cx="408960" cy="10756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6" name="Text Box 44"/>
            <p:cNvSpPr/>
            <p:nvPr/>
          </p:nvSpPr>
          <p:spPr>
            <a:xfrm>
              <a:off x="2594160" y="30099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Text Box 45"/>
            <p:cNvSpPr/>
            <p:nvPr/>
          </p:nvSpPr>
          <p:spPr>
            <a:xfrm>
              <a:off x="1944720" y="4559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Group 58"/>
          <p:cNvGrpSpPr/>
          <p:nvPr/>
        </p:nvGrpSpPr>
        <p:grpSpPr>
          <a:xfrm>
            <a:off x="5349960" y="4530600"/>
            <a:ext cx="1379160" cy="1337040"/>
            <a:chOff x="5349960" y="4530600"/>
            <a:chExt cx="1379160" cy="1337040"/>
          </a:xfrm>
        </p:grpSpPr>
        <p:grpSp>
          <p:nvGrpSpPr>
            <p:cNvPr id="199" name="Group 46"/>
            <p:cNvGrpSpPr/>
            <p:nvPr/>
          </p:nvGrpSpPr>
          <p:grpSpPr>
            <a:xfrm>
              <a:off x="5349960" y="4530600"/>
              <a:ext cx="1290600" cy="1105920"/>
              <a:chOff x="5349960" y="4530600"/>
              <a:chExt cx="1290600" cy="1105920"/>
            </a:xfrm>
          </p:grpSpPr>
          <p:sp>
            <p:nvSpPr>
              <p:cNvPr id="200" name="Line 47"/>
              <p:cNvSpPr/>
              <p:nvPr/>
            </p:nvSpPr>
            <p:spPr>
              <a:xfrm flipH="1" flipV="1">
                <a:off x="5349960" y="4530600"/>
                <a:ext cx="150120" cy="1105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Line 48"/>
              <p:cNvSpPr/>
              <p:nvPr/>
            </p:nvSpPr>
            <p:spPr>
              <a:xfrm flipV="1">
                <a:off x="5500080" y="5481720"/>
                <a:ext cx="1140480" cy="154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Text Box 49"/>
            <p:cNvSpPr/>
            <p:nvPr/>
          </p:nvSpPr>
          <p:spPr>
            <a:xfrm>
              <a:off x="5423400" y="4532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Text Box 50"/>
            <p:cNvSpPr/>
            <p:nvPr/>
          </p:nvSpPr>
          <p:spPr>
            <a:xfrm>
              <a:off x="6392880" y="54687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" name="Text Box 60"/>
          <p:cNvSpPr/>
          <p:nvPr/>
        </p:nvSpPr>
        <p:spPr>
          <a:xfrm>
            <a:off x="285480" y="540864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ing Reference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61"/>
          <p:cNvSpPr/>
          <p:nvPr/>
        </p:nvSpPr>
        <p:spPr>
          <a:xfrm flipV="1">
            <a:off x="1476360" y="4905000"/>
            <a:ext cx="466920" cy="539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62"/>
          <p:cNvSpPr/>
          <p:nvPr/>
        </p:nvSpPr>
        <p:spPr>
          <a:xfrm>
            <a:off x="1321560" y="5846760"/>
            <a:ext cx="17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: rad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: tang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4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FDF0-B940-4318-A251-D524BCB68E3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ooter Placeholder 5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Slide Number Placeholder 6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CEF8-1A70-4C9E-9910-556D25505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970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Angular Acceleration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247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 rate of change of angular velocity.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  <a:p>
            <a:pPr marL="332640" indent="-332640"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verage angular acceleration equals the change in angular velocity divided by time.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609480" y="4522680"/>
            <a:ext cx="77724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 symbol is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, (alpha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ngular acceleration is a vector found using the rt. hand rul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6"/>
              <p:cNvSpPr txBox="1"/>
              <p:nvPr/>
            </p:nvSpPr>
            <p:spPr>
              <a:xfrm>
                <a:off x="1116000" y="3186000"/>
                <a:ext cx="163656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ω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3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EC03-3DDB-4F67-9844-CD56C6868F9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2242-9269-43D5-9545-43CF6291E3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Angular Acceleration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6560" y="1981080"/>
            <a:ext cx="828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ngular acceleration occurs when something spins faster and faster or slower and slower, or when the object’s axis of spin changes direction.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eorgia"/>
              </a:rPr>
              <a:t>Track Example</a:t>
            </a:r>
            <a:endParaRPr b="0" lang="en-US" sz="32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220" name="Date Placeholder 2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00AB-AF02-4342-9B8C-5323BEC6937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ooter Placeholder 3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18FE-8BB7-4D9E-8A25-36895D183D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Freeform 6"/>
          <p:cNvSpPr/>
          <p:nvPr/>
        </p:nvSpPr>
        <p:spPr>
          <a:xfrm>
            <a:off x="693720" y="3444840"/>
            <a:ext cx="4259160" cy="2521080"/>
          </a:xfrm>
          <a:custGeom>
            <a:avLst/>
            <a:gdLst/>
            <a:ahLst/>
            <a:rect l="l" t="t" r="r" b="b"/>
            <a:pathLst>
              <a:path w="4464370" h="2521276">
                <a:moveTo>
                  <a:pt x="1268408" y="0"/>
                </a:moveTo>
                <a:cubicBezTo>
                  <a:pt x="-521921" y="27373"/>
                  <a:pt x="-320695" y="2528659"/>
                  <a:pt x="1268408" y="2521260"/>
                </a:cubicBezTo>
                <a:cubicBezTo>
                  <a:pt x="2857511" y="2513861"/>
                  <a:pt x="1197387" y="2515341"/>
                  <a:pt x="4464370" y="251238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Straight Connector 8"/>
          <p:cNvSpPr/>
          <p:nvPr/>
        </p:nvSpPr>
        <p:spPr>
          <a:xfrm>
            <a:off x="1905120" y="3444840"/>
            <a:ext cx="0" cy="2521080"/>
          </a:xfrm>
          <a:prstGeom prst="line">
            <a:avLst/>
          </a:prstGeom>
          <a:ln w="255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Straight Connector 12"/>
          <p:cNvSpPr/>
          <p:nvPr/>
        </p:nvSpPr>
        <p:spPr>
          <a:xfrm flipH="1">
            <a:off x="693360" y="4705200"/>
            <a:ext cx="1228680" cy="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Freeform 13"/>
          <p:cNvSpPr/>
          <p:nvPr/>
        </p:nvSpPr>
        <p:spPr>
          <a:xfrm>
            <a:off x="328680" y="3135240"/>
            <a:ext cx="4624200" cy="3113280"/>
          </a:xfrm>
          <a:custGeom>
            <a:avLst/>
            <a:gdLst/>
            <a:ahLst/>
            <a:rect l="l" t="t" r="r" b="b"/>
            <a:pathLst>
              <a:path w="4512952" h="2556456">
                <a:moveTo>
                  <a:pt x="1532713" y="5873"/>
                </a:moveTo>
                <a:cubicBezTo>
                  <a:pt x="1530236" y="3447"/>
                  <a:pt x="1501256" y="-6049"/>
                  <a:pt x="1268939" y="5900"/>
                </a:cubicBezTo>
                <a:cubicBezTo>
                  <a:pt x="-448550" y="17849"/>
                  <a:pt x="-412920" y="2579851"/>
                  <a:pt x="1316990" y="2556295"/>
                </a:cubicBezTo>
                <a:cubicBezTo>
                  <a:pt x="2906093" y="2548896"/>
                  <a:pt x="1245969" y="2550376"/>
                  <a:pt x="4512952" y="254741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328680" y="722160"/>
            <a:ext cx="838368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Usain Bolt runs the curve of this 200 m in 11 s. Assume he ran on the inside line of lane 1, which makes a semicircle (r = 36.5 m) for the first part of the race. His speed after the curve was 11.5 m/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Box 16"/>
          <p:cNvSpPr/>
          <p:nvPr/>
        </p:nvSpPr>
        <p:spPr>
          <a:xfrm>
            <a:off x="799920" y="425124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utura Lt BT"/>
              </a:rPr>
              <a:t>36.5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348000" y="2438280"/>
            <a:ext cx="564372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What distance was run on the curv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What was his angular displacement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What was his average angular velocit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What was his average angular acceleratio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Group 10"/>
          <p:cNvGrpSpPr/>
          <p:nvPr/>
        </p:nvGrpSpPr>
        <p:grpSpPr>
          <a:xfrm>
            <a:off x="1982520" y="3886200"/>
            <a:ext cx="1280880" cy="1561320"/>
            <a:chOff x="1982520" y="3886200"/>
            <a:chExt cx="1280880" cy="1561320"/>
          </a:xfrm>
        </p:grpSpPr>
        <p:grpSp>
          <p:nvGrpSpPr>
            <p:cNvPr id="231" name="Group 5"/>
            <p:cNvGrpSpPr/>
            <p:nvPr/>
          </p:nvGrpSpPr>
          <p:grpSpPr>
            <a:xfrm>
              <a:off x="2438280" y="4377960"/>
              <a:ext cx="457200" cy="609480"/>
              <a:chOff x="2438280" y="4377960"/>
              <a:chExt cx="457200" cy="609480"/>
            </a:xfrm>
          </p:grpSpPr>
          <p:sp>
            <p:nvSpPr>
              <p:cNvPr id="232" name="Line 3"/>
              <p:cNvSpPr/>
              <p:nvPr/>
            </p:nvSpPr>
            <p:spPr>
              <a:xfrm>
                <a:off x="2666880" y="437796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Line 4"/>
              <p:cNvSpPr/>
              <p:nvPr/>
            </p:nvSpPr>
            <p:spPr>
              <a:xfrm>
                <a:off x="2438280" y="468288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4" name="Text Box 6"/>
            <p:cNvSpPr/>
            <p:nvPr/>
          </p:nvSpPr>
          <p:spPr>
            <a:xfrm>
              <a:off x="2500920" y="3886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Text Box 7"/>
            <p:cNvSpPr/>
            <p:nvPr/>
          </p:nvSpPr>
          <p:spPr>
            <a:xfrm>
              <a:off x="1982520" y="44542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2896920" y="4454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Text Box 9"/>
            <p:cNvSpPr/>
            <p:nvPr/>
          </p:nvSpPr>
          <p:spPr>
            <a:xfrm>
              <a:off x="2516400" y="49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8" name="TextBox 26"/>
          <p:cNvSpPr/>
          <p:nvPr/>
        </p:nvSpPr>
        <p:spPr>
          <a:xfrm>
            <a:off x="1889280" y="30481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utura Lt BT"/>
              </a:rPr>
              <a:t>St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Box 27"/>
          <p:cNvSpPr/>
          <p:nvPr/>
        </p:nvSpPr>
        <p:spPr>
          <a:xfrm>
            <a:off x="4945320" y="58500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utura Lt BT"/>
              </a:rPr>
              <a:t>Fini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Straight Connector 8"/>
          <p:cNvSpPr/>
          <p:nvPr/>
        </p:nvSpPr>
        <p:spPr>
          <a:xfrm>
            <a:off x="4952880" y="5899320"/>
            <a:ext cx="0" cy="425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Straight Connector 8"/>
          <p:cNvSpPr/>
          <p:nvPr/>
        </p:nvSpPr>
        <p:spPr>
          <a:xfrm>
            <a:off x="1905120" y="3135240"/>
            <a:ext cx="0" cy="293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Box 26"/>
          <p:cNvSpPr/>
          <p:nvPr/>
        </p:nvSpPr>
        <p:spPr>
          <a:xfrm>
            <a:off x="589320" y="1844640"/>
            <a:ext cx="73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utura Lt BT"/>
              </a:rPr>
              <a:t>Circle Circumference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00"/>
                </a:solidFill>
                <a:latin typeface="Futura Lt BT"/>
              </a:rPr>
              <a:t>r;  Circle Diameter = 2r;   r is radi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Straight Connector 8"/>
          <p:cNvSpPr/>
          <p:nvPr/>
        </p:nvSpPr>
        <p:spPr>
          <a:xfrm>
            <a:off x="1898640" y="5954760"/>
            <a:ext cx="0" cy="293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Picture 1" descr=""/>
          <p:cNvPicPr/>
          <p:nvPr/>
        </p:nvPicPr>
        <p:blipFill>
          <a:blip r:embed="rId1"/>
          <a:stretch/>
        </p:blipFill>
        <p:spPr>
          <a:xfrm>
            <a:off x="1800360" y="2549520"/>
            <a:ext cx="3967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8545E-006 C 3.61111E-006 0.00023 -0.19323 0.03516 -0.14844 0.23687 C -0.11094 0.40111 -0.06563 0.37242 -0.01025 0.37381 E">
                                      <p:cBhvr>
                                        <p:cTn id="261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Date Placeholder 2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14B4-2994-4A3B-B931-3C67CCD4D40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Footer Placeholder 3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EA49-1896-4E92-91CD-9FDC0C6D7A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Figure Skater Examples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431640" y="1828800"/>
            <a:ext cx="810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While spinning in the air, a figure skater completes 400 degrees of rotation.  What was the skater’s angular displacement covered in radians?  What was the skater’s angular distance covered in radian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395280" y="39290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 Rounded MT Bol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If a figure skater has an initial angular velocity of 12 radians/second and undergoes an angular acceleration of 10 radians/second/second for 0.5 seconds, what is the skater’s final angular velocity?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9851-EAAD-4C1C-A301-9D0F6C24D16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B698-EBFA-49B3-87AE-7EAD26B43C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Georgia"/>
              </a:rPr>
              <a:t>Linear Acceleration and Rotation</a:t>
            </a:r>
            <a:endParaRPr b="0" lang="en-US" sz="40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468360" y="1521000"/>
            <a:ext cx="83883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When an object has angular motion, it is often easier to express linear acceleration relative to a reference frame that moves with the obj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503280" y="2963880"/>
            <a:ext cx="8388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o, instead of describing acceleration in the fixed X and Y directions, we consider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615960" y="4005360"/>
            <a:ext cx="77724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entripetal (radial) accel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alculated using angular 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velo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angential accel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alculated using angular 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accel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e Placeholder 5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B966-A202-4993-A4CD-D840BB10894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Footer Placeholder 6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Slide Number Placeholder 7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42DE-B4E7-408E-AEA9-8081B22F9B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9664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Centripetal Acceleration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31280" y="1341360"/>
            <a:ext cx="8425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 component of linear acceleration directed towards the axis of rotation (center of the circle).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  <a:p>
            <a:pPr marL="312120" indent="-312120"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ssociated with the change in direction of an object moving in a circle.  Changes the direction of the velocity vector (arrow).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               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5"/>
              <p:cNvSpPr txBox="1"/>
              <p:nvPr/>
            </p:nvSpPr>
            <p:spPr>
              <a:xfrm>
                <a:off x="863640" y="4941720"/>
                <a:ext cx="1836720" cy="14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9"/>
              <p:cNvSpPr txBox="1"/>
              <p:nvPr/>
            </p:nvSpPr>
            <p:spPr>
              <a:xfrm>
                <a:off x="3354480" y="5283360"/>
                <a:ext cx="20095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2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3A18-F73F-4206-975C-82EE4823CA2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6448-D879-4446-87C7-E2DBD77C4E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189000"/>
            <a:ext cx="820908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Centripetal Acceleration and V</a:t>
            </a:r>
            <a:r>
              <a:rPr b="0" lang="en-US" sz="4400" spc="-1" strike="noStrike" baseline="-25000">
                <a:solidFill>
                  <a:srgbClr val="ffcc00"/>
                </a:solidFill>
                <a:latin typeface="Georgia"/>
              </a:rPr>
              <a:t>T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grpSp>
        <p:nvGrpSpPr>
          <p:cNvPr id="269" name="Group 33"/>
          <p:cNvGrpSpPr/>
          <p:nvPr/>
        </p:nvGrpSpPr>
        <p:grpSpPr>
          <a:xfrm>
            <a:off x="380880" y="2514600"/>
            <a:ext cx="3889440" cy="3124080"/>
            <a:chOff x="380880" y="2514600"/>
            <a:chExt cx="3889440" cy="3124080"/>
          </a:xfrm>
        </p:grpSpPr>
        <p:sp>
          <p:nvSpPr>
            <p:cNvPr id="270" name="Oval 3"/>
            <p:cNvSpPr/>
            <p:nvPr/>
          </p:nvSpPr>
          <p:spPr>
            <a:xfrm>
              <a:off x="380880" y="2514600"/>
              <a:ext cx="3353040" cy="3124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Oval 4"/>
            <p:cNvSpPr/>
            <p:nvPr/>
          </p:nvSpPr>
          <p:spPr>
            <a:xfrm>
              <a:off x="1981080" y="4038480"/>
              <a:ext cx="76320" cy="76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Line 5"/>
            <p:cNvSpPr/>
            <p:nvPr/>
          </p:nvSpPr>
          <p:spPr>
            <a:xfrm>
              <a:off x="1981080" y="4038480"/>
              <a:ext cx="1752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Oval 8"/>
            <p:cNvSpPr/>
            <p:nvPr/>
          </p:nvSpPr>
          <p:spPr>
            <a:xfrm>
              <a:off x="3657600" y="39625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Text Box 10"/>
            <p:cNvSpPr/>
            <p:nvPr/>
          </p:nvSpPr>
          <p:spPr>
            <a:xfrm>
              <a:off x="2068200" y="4003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Freeform 11"/>
            <p:cNvSpPr/>
            <p:nvPr/>
          </p:nvSpPr>
          <p:spPr>
            <a:xfrm>
              <a:off x="2714760" y="3514680"/>
              <a:ext cx="296640" cy="800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187" h="504">
                  <a:moveTo>
                    <a:pt x="72" y="504"/>
                  </a:moveTo>
                  <a:cubicBezTo>
                    <a:pt x="89" y="479"/>
                    <a:pt x="155" y="410"/>
                    <a:pt x="171" y="363"/>
                  </a:cubicBezTo>
                  <a:cubicBezTo>
                    <a:pt x="187" y="316"/>
                    <a:pt x="180" y="261"/>
                    <a:pt x="171" y="219"/>
                  </a:cubicBezTo>
                  <a:cubicBezTo>
                    <a:pt x="162" y="177"/>
                    <a:pt x="145" y="144"/>
                    <a:pt x="117" y="108"/>
                  </a:cubicBezTo>
                  <a:cubicBezTo>
                    <a:pt x="89" y="72"/>
                    <a:pt x="25" y="23"/>
                    <a:pt x="0" y="0"/>
                  </a:cubicBezTo>
                </a:path>
              </a:pathLst>
            </a:custGeom>
            <a:noFill/>
            <a:ln w="28440">
              <a:solidFill>
                <a:srgbClr val="00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Text Box 12"/>
            <p:cNvSpPr/>
            <p:nvPr/>
          </p:nvSpPr>
          <p:spPr>
            <a:xfrm>
              <a:off x="2973960" y="342252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Line 13"/>
            <p:cNvSpPr/>
            <p:nvPr/>
          </p:nvSpPr>
          <p:spPr>
            <a:xfrm flipV="1">
              <a:off x="3733920" y="2819520"/>
              <a:ext cx="0" cy="12189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3821400" y="281952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000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Group 34"/>
          <p:cNvGrpSpPr/>
          <p:nvPr/>
        </p:nvGrpSpPr>
        <p:grpSpPr>
          <a:xfrm>
            <a:off x="1763280" y="1755720"/>
            <a:ext cx="1296000" cy="2286000"/>
            <a:chOff x="1763280" y="1755720"/>
            <a:chExt cx="1296000" cy="2286000"/>
          </a:xfrm>
        </p:grpSpPr>
        <p:sp>
          <p:nvSpPr>
            <p:cNvPr id="280" name="Line 7"/>
            <p:cNvSpPr/>
            <p:nvPr/>
          </p:nvSpPr>
          <p:spPr>
            <a:xfrm flipV="1">
              <a:off x="2068560" y="2746440"/>
              <a:ext cx="914400" cy="129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Oval 9"/>
            <p:cNvSpPr/>
            <p:nvPr/>
          </p:nvSpPr>
          <p:spPr>
            <a:xfrm>
              <a:off x="2906640" y="2670120"/>
              <a:ext cx="152640" cy="1526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Line 14"/>
            <p:cNvSpPr/>
            <p:nvPr/>
          </p:nvSpPr>
          <p:spPr>
            <a:xfrm flipH="1" flipV="1">
              <a:off x="1763280" y="2060280"/>
              <a:ext cx="121932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Text Box 16"/>
            <p:cNvSpPr/>
            <p:nvPr/>
          </p:nvSpPr>
          <p:spPr>
            <a:xfrm>
              <a:off x="1998720" y="175572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000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" name="Text Box 20"/>
          <p:cNvSpPr/>
          <p:nvPr/>
        </p:nvSpPr>
        <p:spPr>
          <a:xfrm>
            <a:off x="4211280" y="5479920"/>
            <a:ext cx="23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n-US" sz="2800" spc="-1" strike="noStrike" baseline="-2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+ 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Group 36"/>
          <p:cNvGrpSpPr/>
          <p:nvPr/>
        </p:nvGrpSpPr>
        <p:grpSpPr>
          <a:xfrm>
            <a:off x="6705720" y="3200040"/>
            <a:ext cx="531360" cy="1219320"/>
            <a:chOff x="6705720" y="3200040"/>
            <a:chExt cx="531360" cy="1219320"/>
          </a:xfrm>
        </p:grpSpPr>
        <p:sp>
          <p:nvSpPr>
            <p:cNvPr id="286" name="Line 18"/>
            <p:cNvSpPr/>
            <p:nvPr/>
          </p:nvSpPr>
          <p:spPr>
            <a:xfrm flipV="1">
              <a:off x="6705720" y="3200040"/>
              <a:ext cx="0" cy="12193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Text Box 22"/>
            <p:cNvSpPr/>
            <p:nvPr/>
          </p:nvSpPr>
          <p:spPr>
            <a:xfrm>
              <a:off x="6788160" y="365760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000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Text Box 24"/>
          <p:cNvSpPr/>
          <p:nvPr/>
        </p:nvSpPr>
        <p:spPr>
          <a:xfrm>
            <a:off x="5798160" y="29653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Group 45"/>
          <p:cNvGrpSpPr/>
          <p:nvPr/>
        </p:nvGrpSpPr>
        <p:grpSpPr>
          <a:xfrm>
            <a:off x="5579640" y="3752640"/>
            <a:ext cx="2723760" cy="1914840"/>
            <a:chOff x="5579640" y="3752640"/>
            <a:chExt cx="2723760" cy="1914840"/>
          </a:xfrm>
        </p:grpSpPr>
        <p:grpSp>
          <p:nvGrpSpPr>
            <p:cNvPr id="290" name="Group 37"/>
            <p:cNvGrpSpPr/>
            <p:nvPr/>
          </p:nvGrpSpPr>
          <p:grpSpPr>
            <a:xfrm>
              <a:off x="5579640" y="3752640"/>
              <a:ext cx="1125720" cy="757080"/>
              <a:chOff x="5579640" y="3752640"/>
              <a:chExt cx="1125720" cy="757080"/>
            </a:xfrm>
          </p:grpSpPr>
          <p:sp>
            <p:nvSpPr>
              <p:cNvPr id="291" name="Line 17"/>
              <p:cNvSpPr/>
              <p:nvPr/>
            </p:nvSpPr>
            <p:spPr>
              <a:xfrm flipH="1" flipV="1">
                <a:off x="5579640" y="3752640"/>
                <a:ext cx="1125720" cy="668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Text Box 23"/>
              <p:cNvSpPr/>
              <p:nvPr/>
            </p:nvSpPr>
            <p:spPr>
              <a:xfrm>
                <a:off x="5694120" y="40500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000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3" name="Line 25"/>
            <p:cNvSpPr/>
            <p:nvPr/>
          </p:nvSpPr>
          <p:spPr>
            <a:xfrm>
              <a:off x="6172200" y="4114800"/>
              <a:ext cx="838080" cy="106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Text Box 26"/>
            <p:cNvSpPr/>
            <p:nvPr/>
          </p:nvSpPr>
          <p:spPr>
            <a:xfrm>
              <a:off x="6968880" y="4842000"/>
              <a:ext cx="133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esulta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ector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Group 40"/>
          <p:cNvGrpSpPr/>
          <p:nvPr/>
        </p:nvGrpSpPr>
        <p:grpSpPr>
          <a:xfrm>
            <a:off x="5257800" y="1523880"/>
            <a:ext cx="2971800" cy="1447560"/>
            <a:chOff x="5257800" y="1523880"/>
            <a:chExt cx="2971800" cy="1447560"/>
          </a:xfrm>
        </p:grpSpPr>
        <p:sp>
          <p:nvSpPr>
            <p:cNvPr id="296" name="Text Box 27"/>
            <p:cNvSpPr/>
            <p:nvPr/>
          </p:nvSpPr>
          <p:spPr>
            <a:xfrm>
              <a:off x="5257800" y="1523880"/>
              <a:ext cx="297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used by radial accele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Line 30"/>
            <p:cNvSpPr/>
            <p:nvPr/>
          </p:nvSpPr>
          <p:spPr>
            <a:xfrm flipH="1" flipV="1">
              <a:off x="5866920" y="2285640"/>
              <a:ext cx="22860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Line 31"/>
          <p:cNvSpPr/>
          <p:nvPr/>
        </p:nvSpPr>
        <p:spPr>
          <a:xfrm flipH="1">
            <a:off x="2410920" y="3284640"/>
            <a:ext cx="1081080" cy="576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32"/>
          <p:cNvSpPr/>
          <p:nvPr/>
        </p:nvSpPr>
        <p:spPr>
          <a:xfrm>
            <a:off x="2808360" y="2960640"/>
            <a:ext cx="468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R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Oval 41"/>
          <p:cNvSpPr/>
          <p:nvPr/>
        </p:nvSpPr>
        <p:spPr>
          <a:xfrm>
            <a:off x="3419640" y="3213000"/>
            <a:ext cx="144360" cy="1447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Freeform 43"/>
          <p:cNvSpPr/>
          <p:nvPr/>
        </p:nvSpPr>
        <p:spPr>
          <a:xfrm>
            <a:off x="2978280" y="2762280"/>
            <a:ext cx="765000" cy="1279440"/>
          </a:xfrm>
          <a:custGeom>
            <a:avLst/>
            <a:gdLst>
              <a:gd name="textAreaLeft" fmla="*/ 0 w 765000"/>
              <a:gd name="textAreaRight" fmla="*/ 765360 w 765000"/>
              <a:gd name="textAreaTop" fmla="*/ 0 h 1279440"/>
              <a:gd name="textAreaBottom" fmla="*/ 1279440 h 1279440"/>
            </a:gdLst>
            <a:ahLst/>
            <a:rect l="textAreaLeft" t="textAreaTop" r="textAreaRight" b="textAreaBottom"/>
            <a:pathLst>
              <a:path w="482" h="806">
                <a:moveTo>
                  <a:pt x="482" y="806"/>
                </a:moveTo>
                <a:cubicBezTo>
                  <a:pt x="458" y="726"/>
                  <a:pt x="472" y="540"/>
                  <a:pt x="336" y="328"/>
                </a:cubicBezTo>
                <a:cubicBezTo>
                  <a:pt x="182" y="93"/>
                  <a:pt x="70" y="68"/>
                  <a:pt x="0" y="0"/>
                </a:cubicBez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44"/>
          <p:cNvSpPr/>
          <p:nvPr/>
        </p:nvSpPr>
        <p:spPr>
          <a:xfrm flipH="1">
            <a:off x="2410920" y="3284640"/>
            <a:ext cx="1081080" cy="576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46"/>
          <p:cNvSpPr/>
          <p:nvPr/>
        </p:nvSpPr>
        <p:spPr>
          <a:xfrm>
            <a:off x="2444760" y="1736640"/>
            <a:ext cx="71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cc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47"/>
          <p:cNvSpPr/>
          <p:nvPr/>
        </p:nvSpPr>
        <p:spPr>
          <a:xfrm>
            <a:off x="4173480" y="2792520"/>
            <a:ext cx="71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cc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33333E-006 C 0.03143 -0.02314 0.13021 -0.1375 0.18837 -0.13935 C 0.24653 -0.1412 0.31598 -0.03819 0.34948 -0.01157 E">
                                      <p:cBhvr>
                                        <p:cTn id="352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4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5DE9-C91A-4CBA-9E32-490386CC872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Footer Placeholder 5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Slide Number Placeholder 6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A357-9F1C-4C90-88AD-CC8ECA2E4A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23960" y="297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Tangential Acceleration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59456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The component of linear acceleration tangent to the circular path (perpendicular to the radius).</a:t>
            </a:r>
            <a:endParaRPr b="0" lang="en-US" sz="26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Associated with the speeding up of an object moving in a circle.  Increases the length of the tangential velocity arrow.</a:t>
            </a:r>
            <a:endParaRPr b="0" lang="en-US" sz="26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Equal to the angular acceleration times the radius.</a:t>
            </a:r>
            <a:endParaRPr b="0" lang="en-US" sz="2600" spc="-1" strike="noStrike">
              <a:solidFill>
                <a:srgbClr val="ffffff"/>
              </a:solidFill>
              <a:latin typeface="Arial Rounded MT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1133640" y="4878360"/>
                <a:ext cx="1854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1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62BF-560B-4E00-9AEA-80D22C89A73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ooter Placeholder 2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2D08-AA15-4347-9806-255A24352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2809080" y="968400"/>
            <a:ext cx="2849400" cy="581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KINEMA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1115640" y="1600200"/>
            <a:ext cx="6319800" cy="1572120"/>
            <a:chOff x="1115640" y="1600200"/>
            <a:chExt cx="6319800" cy="1572120"/>
          </a:xfrm>
        </p:grpSpPr>
        <p:sp>
          <p:nvSpPr>
            <p:cNvPr id="55" name="Line 4"/>
            <p:cNvSpPr/>
            <p:nvPr/>
          </p:nvSpPr>
          <p:spPr>
            <a:xfrm>
              <a:off x="4267080" y="1600200"/>
              <a:ext cx="0" cy="5335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1115640" y="2590920"/>
              <a:ext cx="1764000" cy="58140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LINEA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Line 6"/>
            <p:cNvSpPr/>
            <p:nvPr/>
          </p:nvSpPr>
          <p:spPr>
            <a:xfrm>
              <a:off x="1981080" y="2133720"/>
              <a:ext cx="43434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Line 7"/>
            <p:cNvSpPr/>
            <p:nvPr/>
          </p:nvSpPr>
          <p:spPr>
            <a:xfrm>
              <a:off x="1981080" y="2133720"/>
              <a:ext cx="0" cy="4572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Line 8"/>
            <p:cNvSpPr/>
            <p:nvPr/>
          </p:nvSpPr>
          <p:spPr>
            <a:xfrm>
              <a:off x="6307200" y="2133720"/>
              <a:ext cx="0" cy="4572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Text Box 9"/>
            <p:cNvSpPr/>
            <p:nvPr/>
          </p:nvSpPr>
          <p:spPr>
            <a:xfrm>
              <a:off x="5195880" y="2590920"/>
              <a:ext cx="2239560" cy="58140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ANGULA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Text Box 10"/>
          <p:cNvSpPr/>
          <p:nvPr/>
        </p:nvSpPr>
        <p:spPr>
          <a:xfrm>
            <a:off x="746280" y="3981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Group 11"/>
          <p:cNvGrpSpPr/>
          <p:nvPr/>
        </p:nvGrpSpPr>
        <p:grpSpPr>
          <a:xfrm>
            <a:off x="4510080" y="3200400"/>
            <a:ext cx="2576160" cy="2396160"/>
            <a:chOff x="4510080" y="3200400"/>
            <a:chExt cx="2576160" cy="2396160"/>
          </a:xfrm>
        </p:grpSpPr>
        <p:sp>
          <p:nvSpPr>
            <p:cNvPr id="63" name="Line 12"/>
            <p:cNvSpPr/>
            <p:nvPr/>
          </p:nvSpPr>
          <p:spPr>
            <a:xfrm>
              <a:off x="6324480" y="3200400"/>
              <a:ext cx="0" cy="4572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Line 13"/>
            <p:cNvSpPr/>
            <p:nvPr/>
          </p:nvSpPr>
          <p:spPr>
            <a:xfrm flipH="1">
              <a:off x="5562360" y="3657600"/>
              <a:ext cx="15238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4510080" y="4040280"/>
              <a:ext cx="1674360" cy="155628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Scalar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Distan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Speed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Line 15"/>
            <p:cNvSpPr/>
            <p:nvPr/>
          </p:nvSpPr>
          <p:spPr>
            <a:xfrm>
              <a:off x="5562720" y="3657600"/>
              <a:ext cx="0" cy="3808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6"/>
          <p:cNvGrpSpPr/>
          <p:nvPr/>
        </p:nvGrpSpPr>
        <p:grpSpPr>
          <a:xfrm>
            <a:off x="6445080" y="3657600"/>
            <a:ext cx="2532240" cy="2424600"/>
            <a:chOff x="6445080" y="3657600"/>
            <a:chExt cx="2532240" cy="2424600"/>
          </a:xfrm>
        </p:grpSpPr>
        <p:sp>
          <p:nvSpPr>
            <p:cNvPr id="68" name="Line 17"/>
            <p:cNvSpPr/>
            <p:nvPr/>
          </p:nvSpPr>
          <p:spPr>
            <a:xfrm>
              <a:off x="7086600" y="3657600"/>
              <a:ext cx="0" cy="3808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Text Box 18"/>
            <p:cNvSpPr/>
            <p:nvPr/>
          </p:nvSpPr>
          <p:spPr>
            <a:xfrm>
              <a:off x="6445080" y="4038480"/>
              <a:ext cx="2532240" cy="204372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Vector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Displac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Velocit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Acceleratio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Text Box 19"/>
          <p:cNvSpPr/>
          <p:nvPr/>
        </p:nvSpPr>
        <p:spPr>
          <a:xfrm>
            <a:off x="142920" y="3306600"/>
            <a:ext cx="32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vious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5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E4D0-2480-4BD9-B512-3DC95D4F4EF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Footer Placeholder 6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Slide Number Placeholder 7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CCEE-4990-40FA-92E3-CE07FBB0B9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19280" y="22536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Constant Angular Motion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315" name="Oval 6"/>
          <p:cNvSpPr/>
          <p:nvPr/>
        </p:nvSpPr>
        <p:spPr>
          <a:xfrm>
            <a:off x="4643280" y="1557360"/>
            <a:ext cx="2268720" cy="2268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Oval 7"/>
          <p:cNvSpPr/>
          <p:nvPr/>
        </p:nvSpPr>
        <p:spPr>
          <a:xfrm>
            <a:off x="5651640" y="1413000"/>
            <a:ext cx="287280" cy="287280"/>
          </a:xfrm>
          <a:prstGeom prst="ellipse">
            <a:avLst/>
          </a:prstGeom>
          <a:solidFill>
            <a:srgbClr val="0066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Oval 8"/>
          <p:cNvSpPr/>
          <p:nvPr/>
        </p:nvSpPr>
        <p:spPr>
          <a:xfrm>
            <a:off x="5722920" y="2635200"/>
            <a:ext cx="109440" cy="1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18"/>
          <p:cNvSpPr/>
          <p:nvPr/>
        </p:nvSpPr>
        <p:spPr>
          <a:xfrm>
            <a:off x="5040360" y="4149720"/>
            <a:ext cx="4032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0, therefo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cons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0, therefore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cons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Line 19"/>
          <p:cNvSpPr/>
          <p:nvPr/>
        </p:nvSpPr>
        <p:spPr>
          <a:xfrm>
            <a:off x="5796000" y="2709720"/>
            <a:ext cx="115236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20"/>
          <p:cNvSpPr/>
          <p:nvPr/>
        </p:nvSpPr>
        <p:spPr>
          <a:xfrm>
            <a:off x="5796360" y="2313000"/>
            <a:ext cx="10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 = 2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395280" y="1628640"/>
            <a:ext cx="27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360 º (6.28 r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= 3 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Picture 34" descr=""/>
          <p:cNvPicPr/>
          <p:nvPr/>
        </p:nvPicPr>
        <p:blipFill>
          <a:blip r:embed="rId1"/>
          <a:stretch/>
        </p:blipFill>
        <p:spPr>
          <a:xfrm>
            <a:off x="247680" y="4834080"/>
            <a:ext cx="3819600" cy="533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9" descr=""/>
          <p:cNvPicPr/>
          <p:nvPr/>
        </p:nvPicPr>
        <p:blipFill>
          <a:blip r:embed="rId2"/>
          <a:stretch/>
        </p:blipFill>
        <p:spPr>
          <a:xfrm>
            <a:off x="250920" y="3105000"/>
            <a:ext cx="3848040" cy="914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1" descr=""/>
          <p:cNvPicPr/>
          <p:nvPr/>
        </p:nvPicPr>
        <p:blipFill>
          <a:blip r:embed="rId3"/>
          <a:stretch/>
        </p:blipFill>
        <p:spPr>
          <a:xfrm>
            <a:off x="216000" y="4113360"/>
            <a:ext cx="3924360" cy="46656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43"/>
          <p:cNvSpPr/>
          <p:nvPr/>
        </p:nvSpPr>
        <p:spPr>
          <a:xfrm>
            <a:off x="262080" y="5522760"/>
            <a:ext cx="51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For this example, instantaneous values are the same as average valu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6 0.00023 C 0.06806 0.00023 0.12414 0.07491 0.12414 0.16693 C 0.12414 0.25896 0.06806 0.33364 -0.00086 0.33364 C -0.06979 0.33364 -0.12586 0.25896 -0.12586 0.16693 C -0.12586 0.07491 -0.06979 0.00023 -0.00086 0.00023 Z">
                                      <p:cBhvr>
                                        <p:cTn id="379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5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930E-F3FF-461C-8A00-D71C09591BB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Footer Placeholder 6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Slide Number Placeholder 7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3133-F6B7-4F48-8EC1-4CEE2A5F91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9280" y="22536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Accelerated Angular Motion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330" name="Oval 3"/>
          <p:cNvSpPr/>
          <p:nvPr/>
        </p:nvSpPr>
        <p:spPr>
          <a:xfrm>
            <a:off x="4643280" y="1557360"/>
            <a:ext cx="2268720" cy="2268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Oval 4"/>
          <p:cNvSpPr/>
          <p:nvPr/>
        </p:nvSpPr>
        <p:spPr>
          <a:xfrm>
            <a:off x="5651640" y="1413000"/>
            <a:ext cx="287280" cy="287280"/>
          </a:xfrm>
          <a:prstGeom prst="ellipse">
            <a:avLst/>
          </a:prstGeom>
          <a:solidFill>
            <a:srgbClr val="0066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Oval 5"/>
          <p:cNvSpPr/>
          <p:nvPr/>
        </p:nvSpPr>
        <p:spPr>
          <a:xfrm>
            <a:off x="5722920" y="2635200"/>
            <a:ext cx="109440" cy="1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4680000" y="4365720"/>
            <a:ext cx="40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rue or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ween A and B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&gt; 0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ween D and A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&gt; 0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mega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is alway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7"/>
          <p:cNvSpPr/>
          <p:nvPr/>
        </p:nvSpPr>
        <p:spPr>
          <a:xfrm>
            <a:off x="5796000" y="2709720"/>
            <a:ext cx="115236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5796360" y="2313000"/>
            <a:ext cx="10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 = 2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395280" y="1628640"/>
            <a:ext cx="27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360 º (6.28 r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= 3 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Picture 11" descr=""/>
          <p:cNvPicPr/>
          <p:nvPr/>
        </p:nvPicPr>
        <p:blipFill>
          <a:blip r:embed="rId1"/>
          <a:stretch/>
        </p:blipFill>
        <p:spPr>
          <a:xfrm>
            <a:off x="250920" y="3105000"/>
            <a:ext cx="3848040" cy="9144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13"/>
          <p:cNvSpPr/>
          <p:nvPr/>
        </p:nvSpPr>
        <p:spPr>
          <a:xfrm>
            <a:off x="154080" y="4834080"/>
            <a:ext cx="409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nstantaneous values ar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than average valu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5609160" y="992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6950520" y="245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17"/>
          <p:cNvSpPr/>
          <p:nvPr/>
        </p:nvSpPr>
        <p:spPr>
          <a:xfrm>
            <a:off x="4178520" y="25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18"/>
          <p:cNvSpPr/>
          <p:nvPr/>
        </p:nvSpPr>
        <p:spPr>
          <a:xfrm>
            <a:off x="5618520" y="386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3" name="Picture 19" descr=""/>
          <p:cNvPicPr/>
          <p:nvPr/>
        </p:nvPicPr>
        <p:blipFill>
          <a:blip r:embed="rId2"/>
          <a:stretch/>
        </p:blipFill>
        <p:spPr>
          <a:xfrm>
            <a:off x="216000" y="4041720"/>
            <a:ext cx="3924360" cy="56196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20"/>
          <p:cNvSpPr/>
          <p:nvPr/>
        </p:nvSpPr>
        <p:spPr>
          <a:xfrm>
            <a:off x="8567640" y="4762440"/>
            <a:ext cx="3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T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6 0.00023 C 0.06806 0.00023 0.12414 0.07491 0.12414 0.16693 C 0.12414 0.25896 0.06806 0.33364 -0.00086 0.33364 C -0.06979 0.33364 -0.12586 0.25896 -0.12586 0.16693 C -0.12586 0.07491 -0.06979 0.00023 -0.00086 0.00023 Z">
                                      <p:cBhvr>
                                        <p:cTn id="411" dur="3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Date Placeholder 5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AE34-CC17-4885-AEF2-611709CF967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Footer Placeholder 6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Slide Number Placeholder 7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A655-98F8-4518-82F7-595548A41B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19280" y="22536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Visual Comparison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349" name="Oval 5"/>
          <p:cNvSpPr/>
          <p:nvPr/>
        </p:nvSpPr>
        <p:spPr>
          <a:xfrm>
            <a:off x="4824360" y="1449360"/>
            <a:ext cx="2268720" cy="2268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Oval 6"/>
          <p:cNvSpPr/>
          <p:nvPr/>
        </p:nvSpPr>
        <p:spPr>
          <a:xfrm>
            <a:off x="5832360" y="1305000"/>
            <a:ext cx="287280" cy="287280"/>
          </a:xfrm>
          <a:prstGeom prst="ellipse">
            <a:avLst/>
          </a:prstGeom>
          <a:solidFill>
            <a:srgbClr val="0066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Oval 7"/>
          <p:cNvSpPr/>
          <p:nvPr/>
        </p:nvSpPr>
        <p:spPr>
          <a:xfrm>
            <a:off x="5904000" y="2527200"/>
            <a:ext cx="109440" cy="109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5763240" y="209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15"/>
          <p:cNvSpPr/>
          <p:nvPr/>
        </p:nvSpPr>
        <p:spPr>
          <a:xfrm>
            <a:off x="216000" y="1665360"/>
            <a:ext cx="37432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has/have the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ates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atest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atest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est magnitude of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Oval 32"/>
          <p:cNvSpPr/>
          <p:nvPr/>
        </p:nvSpPr>
        <p:spPr>
          <a:xfrm>
            <a:off x="3274920" y="3968640"/>
            <a:ext cx="2268720" cy="2268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Oval 33"/>
          <p:cNvSpPr/>
          <p:nvPr/>
        </p:nvSpPr>
        <p:spPr>
          <a:xfrm>
            <a:off x="4282920" y="3824280"/>
            <a:ext cx="287640" cy="287280"/>
          </a:xfrm>
          <a:prstGeom prst="ellipse">
            <a:avLst/>
          </a:prstGeom>
          <a:solidFill>
            <a:srgbClr val="0066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Oval 34"/>
          <p:cNvSpPr/>
          <p:nvPr/>
        </p:nvSpPr>
        <p:spPr>
          <a:xfrm>
            <a:off x="4354560" y="5046840"/>
            <a:ext cx="109440" cy="1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35"/>
          <p:cNvSpPr/>
          <p:nvPr/>
        </p:nvSpPr>
        <p:spPr>
          <a:xfrm>
            <a:off x="4213440" y="46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Oval 36"/>
          <p:cNvSpPr/>
          <p:nvPr/>
        </p:nvSpPr>
        <p:spPr>
          <a:xfrm>
            <a:off x="6372360" y="3968640"/>
            <a:ext cx="2268360" cy="2268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Oval 37"/>
          <p:cNvSpPr/>
          <p:nvPr/>
        </p:nvSpPr>
        <p:spPr>
          <a:xfrm>
            <a:off x="7380360" y="3824280"/>
            <a:ext cx="287280" cy="287280"/>
          </a:xfrm>
          <a:prstGeom prst="ellipse">
            <a:avLst/>
          </a:prstGeom>
          <a:solidFill>
            <a:srgbClr val="0066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Oval 38"/>
          <p:cNvSpPr/>
          <p:nvPr/>
        </p:nvSpPr>
        <p:spPr>
          <a:xfrm>
            <a:off x="7451640" y="5046840"/>
            <a:ext cx="109800" cy="1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39"/>
          <p:cNvSpPr/>
          <p:nvPr/>
        </p:nvSpPr>
        <p:spPr>
          <a:xfrm>
            <a:off x="7310520" y="46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41"/>
          <p:cNvSpPr/>
          <p:nvPr/>
        </p:nvSpPr>
        <p:spPr>
          <a:xfrm>
            <a:off x="2277000" y="202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41"/>
          <p:cNvSpPr/>
          <p:nvPr/>
        </p:nvSpPr>
        <p:spPr>
          <a:xfrm>
            <a:off x="2271240" y="2427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41"/>
          <p:cNvSpPr/>
          <p:nvPr/>
        </p:nvSpPr>
        <p:spPr>
          <a:xfrm>
            <a:off x="2271240" y="27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815640" y="315432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 and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454" dur="3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456" dur="3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458" dur="5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2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7CD4-1CC6-44B4-B41F-FD3B1589642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Footer Placeholder 3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Slide Number Placeholder 4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10A2-714B-4C78-95EA-6430F06A07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Angular Kinematics Summary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893160" y="2428920"/>
            <a:ext cx="338724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ular Displa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929520" y="3581280"/>
            <a:ext cx="26586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ular Velo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929880" y="4724280"/>
            <a:ext cx="324864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ular Accel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Line 6"/>
          <p:cNvSpPr/>
          <p:nvPr/>
        </p:nvSpPr>
        <p:spPr>
          <a:xfrm>
            <a:off x="2209680" y="2971800"/>
            <a:ext cx="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7"/>
          <p:cNvSpPr/>
          <p:nvPr/>
        </p:nvSpPr>
        <p:spPr>
          <a:xfrm>
            <a:off x="2209680" y="4114800"/>
            <a:ext cx="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4891320" y="3581280"/>
            <a:ext cx="366156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ntripetal Accel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4891680" y="4724280"/>
            <a:ext cx="360216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ngential Accel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10"/>
          <p:cNvSpPr/>
          <p:nvPr/>
        </p:nvSpPr>
        <p:spPr>
          <a:xfrm>
            <a:off x="3581280" y="3886200"/>
            <a:ext cx="129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11"/>
          <p:cNvSpPr/>
          <p:nvPr/>
        </p:nvSpPr>
        <p:spPr>
          <a:xfrm>
            <a:off x="4191120" y="502920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6172200" y="30481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in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13"/>
          <p:cNvSpPr/>
          <p:nvPr/>
        </p:nvSpPr>
        <p:spPr>
          <a:xfrm>
            <a:off x="1737720" y="1870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g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eorgia"/>
              </a:rPr>
              <a:t>Track Example #2</a:t>
            </a:r>
            <a:endParaRPr b="0" lang="en-US" sz="32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382" name="Date Placeholder 2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E595-0E64-49D4-98C8-E06FF346FBE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Footer Placeholder 3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D4FC-4871-46AA-9C26-BBCA79E2D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Freeform 6"/>
          <p:cNvSpPr/>
          <p:nvPr/>
        </p:nvSpPr>
        <p:spPr>
          <a:xfrm>
            <a:off x="693720" y="3444840"/>
            <a:ext cx="4259160" cy="2521080"/>
          </a:xfrm>
          <a:custGeom>
            <a:avLst/>
            <a:gdLst/>
            <a:ahLst/>
            <a:rect l="l" t="t" r="r" b="b"/>
            <a:pathLst>
              <a:path w="4464370" h="2521276">
                <a:moveTo>
                  <a:pt x="1268408" y="0"/>
                </a:moveTo>
                <a:cubicBezTo>
                  <a:pt x="-521921" y="27373"/>
                  <a:pt x="-320695" y="2528659"/>
                  <a:pt x="1268408" y="2521260"/>
                </a:cubicBezTo>
                <a:cubicBezTo>
                  <a:pt x="2857511" y="2513861"/>
                  <a:pt x="1197387" y="2515341"/>
                  <a:pt x="4464370" y="251238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Straight Connector 8"/>
          <p:cNvSpPr/>
          <p:nvPr/>
        </p:nvSpPr>
        <p:spPr>
          <a:xfrm>
            <a:off x="1905120" y="3444840"/>
            <a:ext cx="0" cy="2521080"/>
          </a:xfrm>
          <a:prstGeom prst="line">
            <a:avLst/>
          </a:prstGeom>
          <a:ln w="255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Straight Connector 12"/>
          <p:cNvSpPr/>
          <p:nvPr/>
        </p:nvSpPr>
        <p:spPr>
          <a:xfrm flipH="1">
            <a:off x="693360" y="4705200"/>
            <a:ext cx="1228680" cy="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Freeform 13"/>
          <p:cNvSpPr/>
          <p:nvPr/>
        </p:nvSpPr>
        <p:spPr>
          <a:xfrm>
            <a:off x="328680" y="3135240"/>
            <a:ext cx="4624200" cy="3113280"/>
          </a:xfrm>
          <a:custGeom>
            <a:avLst/>
            <a:gdLst/>
            <a:ahLst/>
            <a:rect l="l" t="t" r="r" b="b"/>
            <a:pathLst>
              <a:path w="4512952" h="2556456">
                <a:moveTo>
                  <a:pt x="1532713" y="5873"/>
                </a:moveTo>
                <a:cubicBezTo>
                  <a:pt x="1530236" y="3447"/>
                  <a:pt x="1501256" y="-6049"/>
                  <a:pt x="1268939" y="5900"/>
                </a:cubicBezTo>
                <a:cubicBezTo>
                  <a:pt x="-448550" y="17849"/>
                  <a:pt x="-412920" y="2579851"/>
                  <a:pt x="1316990" y="2556295"/>
                </a:cubicBezTo>
                <a:cubicBezTo>
                  <a:pt x="2906093" y="2548896"/>
                  <a:pt x="1245969" y="2550376"/>
                  <a:pt x="4512952" y="254741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328680" y="722160"/>
            <a:ext cx="838368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t 4 s into his 200 m race, Bolt is running with a speed of 7 m/s. At 9 s, his speed is at 10 m/s. Assume he is running on the inside line of lane 1, which makes a semicircle (r = 36.5 m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Box 16"/>
          <p:cNvSpPr/>
          <p:nvPr/>
        </p:nvSpPr>
        <p:spPr>
          <a:xfrm>
            <a:off x="799920" y="425124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utura Lt BT"/>
              </a:rPr>
              <a:t>36.5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3348000" y="2071800"/>
            <a:ext cx="5643720" cy="28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What’s his radial acceleration at 4 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What’s his radial acceleration at 9 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What’s his angular velocity at 4 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What’s his angular velocity at 9 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What’s his average angular acceleration between 4 s and 9 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What’s his average tangential acceleration between 4 s and 9 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Group 10"/>
          <p:cNvGrpSpPr/>
          <p:nvPr/>
        </p:nvGrpSpPr>
        <p:grpSpPr>
          <a:xfrm>
            <a:off x="1982520" y="3886200"/>
            <a:ext cx="1280880" cy="1561320"/>
            <a:chOff x="1982520" y="3886200"/>
            <a:chExt cx="1280880" cy="1561320"/>
          </a:xfrm>
        </p:grpSpPr>
        <p:grpSp>
          <p:nvGrpSpPr>
            <p:cNvPr id="393" name="Group 5"/>
            <p:cNvGrpSpPr/>
            <p:nvPr/>
          </p:nvGrpSpPr>
          <p:grpSpPr>
            <a:xfrm>
              <a:off x="2438280" y="4377960"/>
              <a:ext cx="457200" cy="609480"/>
              <a:chOff x="2438280" y="4377960"/>
              <a:chExt cx="457200" cy="609480"/>
            </a:xfrm>
          </p:grpSpPr>
          <p:sp>
            <p:nvSpPr>
              <p:cNvPr id="394" name="Line 3"/>
              <p:cNvSpPr/>
              <p:nvPr/>
            </p:nvSpPr>
            <p:spPr>
              <a:xfrm>
                <a:off x="2666880" y="437796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Line 4"/>
              <p:cNvSpPr/>
              <p:nvPr/>
            </p:nvSpPr>
            <p:spPr>
              <a:xfrm>
                <a:off x="2438280" y="468288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6" name="Text Box 6"/>
            <p:cNvSpPr/>
            <p:nvPr/>
          </p:nvSpPr>
          <p:spPr>
            <a:xfrm>
              <a:off x="2500920" y="3886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Text Box 7"/>
            <p:cNvSpPr/>
            <p:nvPr/>
          </p:nvSpPr>
          <p:spPr>
            <a:xfrm>
              <a:off x="1982520" y="44542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Text Box 8"/>
            <p:cNvSpPr/>
            <p:nvPr/>
          </p:nvSpPr>
          <p:spPr>
            <a:xfrm>
              <a:off x="2896920" y="4454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Text Box 9"/>
            <p:cNvSpPr/>
            <p:nvPr/>
          </p:nvSpPr>
          <p:spPr>
            <a:xfrm>
              <a:off x="2516400" y="49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0" name="TextBox 26"/>
          <p:cNvSpPr/>
          <p:nvPr/>
        </p:nvSpPr>
        <p:spPr>
          <a:xfrm>
            <a:off x="1889280" y="30481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utura Lt BT"/>
              </a:rPr>
              <a:t>St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Box 27"/>
          <p:cNvSpPr/>
          <p:nvPr/>
        </p:nvSpPr>
        <p:spPr>
          <a:xfrm>
            <a:off x="4945320" y="58500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utura Lt BT"/>
              </a:rPr>
              <a:t>Fini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Straight Connector 8"/>
          <p:cNvSpPr/>
          <p:nvPr/>
        </p:nvSpPr>
        <p:spPr>
          <a:xfrm>
            <a:off x="4952880" y="5899320"/>
            <a:ext cx="0" cy="425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Straight Connector 8"/>
          <p:cNvSpPr/>
          <p:nvPr/>
        </p:nvSpPr>
        <p:spPr>
          <a:xfrm>
            <a:off x="1905120" y="3135240"/>
            <a:ext cx="0" cy="293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Straight Connector 8"/>
          <p:cNvSpPr/>
          <p:nvPr/>
        </p:nvSpPr>
        <p:spPr>
          <a:xfrm>
            <a:off x="1898640" y="5954760"/>
            <a:ext cx="0" cy="293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5" name="Picture 1" descr=""/>
          <p:cNvPicPr/>
          <p:nvPr/>
        </p:nvPicPr>
        <p:blipFill>
          <a:blip r:embed="rId1"/>
          <a:stretch/>
        </p:blipFill>
        <p:spPr>
          <a:xfrm>
            <a:off x="679320" y="3317760"/>
            <a:ext cx="398520" cy="879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7" descr=""/>
          <p:cNvPicPr/>
          <p:nvPr/>
        </p:nvPicPr>
        <p:blipFill>
          <a:blip r:embed="rId2"/>
          <a:stretch/>
        </p:blipFill>
        <p:spPr>
          <a:xfrm>
            <a:off x="885960" y="4776840"/>
            <a:ext cx="396720" cy="879480"/>
          </a:xfrm>
          <a:prstGeom prst="rect">
            <a:avLst/>
          </a:prstGeom>
          <a:ln w="0">
            <a:noFill/>
          </a:ln>
        </p:spPr>
      </p:pic>
      <p:sp>
        <p:nvSpPr>
          <p:cNvPr id="407" name="TextBox 26"/>
          <p:cNvSpPr/>
          <p:nvPr/>
        </p:nvSpPr>
        <p:spPr>
          <a:xfrm>
            <a:off x="250920" y="2997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utura Lt BT"/>
              </a:rPr>
              <a:t>t = 4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Box 26"/>
          <p:cNvSpPr/>
          <p:nvPr/>
        </p:nvSpPr>
        <p:spPr>
          <a:xfrm>
            <a:off x="1022400" y="5297400"/>
            <a:ext cx="8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utura Lt BT"/>
              </a:rPr>
              <a:t>t = 9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Date Placeholder 3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CBDD-35AD-4F02-A2C5-1834A00FBF8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CEF5-04E1-4F7E-B950-043D9608B2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Example Problem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23640" y="1376280"/>
            <a:ext cx="813420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 cyclists shown on the next page are rounding a turn at the bottom of a hill. The path they follow in doing this is a gentle curve that becomes progressively sharper as they near the corner. The radius of the path followed by one of these riders is 20 m at one point in the initial gentle part of the turn, and then decreases to a minimum value of 17 m, 1.5 s later. Her tangential velocity at these two instants are 12 m/s and 11.5 m/s respectively. What is her radial acceleration at the two points? What is her average tangential acceleration between the two points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2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6974-CF6B-464B-B4DD-55AB1301A2B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Footer Placeholder 3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C54A-D509-4085-A9D6-DD50F615D5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Biking On a Curve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pic>
        <p:nvPicPr>
          <p:cNvPr id="418" name="Picture 5" descr="Biking on a Curve 1"/>
          <p:cNvPicPr/>
          <p:nvPr/>
        </p:nvPicPr>
        <p:blipFill>
          <a:blip r:embed="rId1"/>
          <a:stretch/>
        </p:blipFill>
        <p:spPr>
          <a:xfrm>
            <a:off x="1871640" y="1052640"/>
            <a:ext cx="5276880" cy="53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8D83-F659-4BEC-9093-4A5E5070F37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7665-41B6-4301-9FBC-BA01D357E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What is an angle?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n angle is formed by the intersection of two lines.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 symbol for angle is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(Theta).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ngles can be measured in degrees or radians (rads).    1 rad = 180/Pi =  57.3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4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84A5-EC86-4425-9AD6-29F624ECD79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Footer Placeholder 5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Slide Number Placeholder 6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DC9F-BC4F-407F-943F-642AA6C4A0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Angular Displacement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grpSp>
        <p:nvGrpSpPr>
          <p:cNvPr id="80" name="Group 21"/>
          <p:cNvGrpSpPr/>
          <p:nvPr/>
        </p:nvGrpSpPr>
        <p:grpSpPr>
          <a:xfrm>
            <a:off x="1967040" y="2590920"/>
            <a:ext cx="5650200" cy="988200"/>
            <a:chOff x="1967040" y="2590920"/>
            <a:chExt cx="5650200" cy="988200"/>
          </a:xfrm>
        </p:grpSpPr>
        <p:sp>
          <p:nvSpPr>
            <p:cNvPr id="81" name="Text Box 9"/>
            <p:cNvSpPr/>
            <p:nvPr/>
          </p:nvSpPr>
          <p:spPr>
            <a:xfrm>
              <a:off x="1967040" y="31194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10"/>
            <p:cNvSpPr/>
            <p:nvPr/>
          </p:nvSpPr>
          <p:spPr>
            <a:xfrm flipV="1">
              <a:off x="2362320" y="2971800"/>
              <a:ext cx="1600200" cy="380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Text Box 11"/>
            <p:cNvSpPr/>
            <p:nvPr/>
          </p:nvSpPr>
          <p:spPr>
            <a:xfrm>
              <a:off x="3958920" y="2590920"/>
              <a:ext cx="365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ngular displacement (rads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Group 19"/>
          <p:cNvGrpSpPr/>
          <p:nvPr/>
        </p:nvGrpSpPr>
        <p:grpSpPr>
          <a:xfrm>
            <a:off x="1905120" y="1828440"/>
            <a:ext cx="533160" cy="1681560"/>
            <a:chOff x="1905120" y="1828440"/>
            <a:chExt cx="533160" cy="1681560"/>
          </a:xfrm>
        </p:grpSpPr>
        <p:sp>
          <p:nvSpPr>
            <p:cNvPr id="85" name="Line 5"/>
            <p:cNvSpPr/>
            <p:nvPr/>
          </p:nvSpPr>
          <p:spPr>
            <a:xfrm flipV="1">
              <a:off x="1905120" y="1828440"/>
              <a:ext cx="228600" cy="1676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2025720" y="2921040"/>
              <a:ext cx="412560" cy="58896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260" h="371">
                  <a:moveTo>
                    <a:pt x="260" y="371"/>
                  </a:moveTo>
                  <a:cubicBezTo>
                    <a:pt x="247" y="267"/>
                    <a:pt x="226" y="248"/>
                    <a:pt x="170" y="164"/>
                  </a:cubicBezTo>
                  <a:cubicBezTo>
                    <a:pt x="145" y="126"/>
                    <a:pt x="127" y="90"/>
                    <a:pt x="89" y="65"/>
                  </a:cubicBezTo>
                  <a:cubicBezTo>
                    <a:pt x="49" y="5"/>
                    <a:pt x="96" y="64"/>
                    <a:pt x="44" y="29"/>
                  </a:cubicBezTo>
                  <a:cubicBezTo>
                    <a:pt x="0" y="0"/>
                    <a:pt x="33" y="2"/>
                    <a:pt x="8" y="2"/>
                  </a:cubicBezTo>
                </a:path>
              </a:pathLst>
            </a:custGeom>
            <a:noFill/>
            <a:ln w="22320">
              <a:solidFill>
                <a:srgbClr val="ffff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Text Box 16"/>
          <p:cNvSpPr/>
          <p:nvPr/>
        </p:nvSpPr>
        <p:spPr>
          <a:xfrm>
            <a:off x="380880" y="53341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ngular displacement is the change in angular position experienced by a rotating line.  A vector quant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Group 24"/>
          <p:cNvGrpSpPr/>
          <p:nvPr/>
        </p:nvGrpSpPr>
        <p:grpSpPr>
          <a:xfrm>
            <a:off x="228600" y="1828800"/>
            <a:ext cx="3352680" cy="3200400"/>
            <a:chOff x="228600" y="1828800"/>
            <a:chExt cx="3352680" cy="3200400"/>
          </a:xfrm>
        </p:grpSpPr>
        <p:sp>
          <p:nvSpPr>
            <p:cNvPr id="89" name="Line 14"/>
            <p:cNvSpPr/>
            <p:nvPr/>
          </p:nvSpPr>
          <p:spPr>
            <a:xfrm flipH="1">
              <a:off x="1905120" y="3505320"/>
              <a:ext cx="83808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Text Box 15"/>
            <p:cNvSpPr/>
            <p:nvPr/>
          </p:nvSpPr>
          <p:spPr>
            <a:xfrm>
              <a:off x="1524600" y="3886200"/>
              <a:ext cx="9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adiu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" name="Group 23"/>
            <p:cNvGrpSpPr/>
            <p:nvPr/>
          </p:nvGrpSpPr>
          <p:grpSpPr>
            <a:xfrm>
              <a:off x="228600" y="1828800"/>
              <a:ext cx="3352680" cy="3200400"/>
              <a:chOff x="228600" y="1828800"/>
              <a:chExt cx="3352680" cy="3200400"/>
            </a:xfrm>
          </p:grpSpPr>
          <p:sp>
            <p:nvSpPr>
              <p:cNvPr id="92" name="Oval 4"/>
              <p:cNvSpPr/>
              <p:nvPr/>
            </p:nvSpPr>
            <p:spPr>
              <a:xfrm>
                <a:off x="228600" y="1828800"/>
                <a:ext cx="3352680" cy="3200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Line 6"/>
              <p:cNvSpPr/>
              <p:nvPr/>
            </p:nvSpPr>
            <p:spPr>
              <a:xfrm>
                <a:off x="1905120" y="3505320"/>
                <a:ext cx="16761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Oval 17"/>
              <p:cNvSpPr/>
              <p:nvPr/>
            </p:nvSpPr>
            <p:spPr>
              <a:xfrm>
                <a:off x="1828800" y="3429000"/>
                <a:ext cx="152280" cy="152280"/>
              </a:xfrm>
              <a:prstGeom prst="ellipse">
                <a:avLst/>
              </a:prstGeom>
              <a:solidFill>
                <a:srgbClr val="ffcc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Group 29"/>
          <p:cNvGrpSpPr/>
          <p:nvPr/>
        </p:nvGrpSpPr>
        <p:grpSpPr>
          <a:xfrm>
            <a:off x="3809880" y="3936960"/>
            <a:ext cx="4191120" cy="968400"/>
            <a:chOff x="3809880" y="3936960"/>
            <a:chExt cx="4191120" cy="968400"/>
          </a:xfrm>
        </p:grpSpPr>
        <mc:AlternateContent>
          <mc:Choice xmlns:a14="http://schemas.microsoft.com/office/drawing/2010/main" Requires="a14">
            <p:sp>
              <p:nvSpPr>
                <p:cNvPr id="96" name="Object 25"/>
                <p:cNvSpPr txBox="1"/>
                <p:nvPr/>
              </p:nvSpPr>
              <p:spPr>
                <a:xfrm>
                  <a:off x="6784920" y="3962520"/>
                  <a:ext cx="1216080" cy="94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θ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Object 27"/>
                <p:cNvSpPr txBox="1"/>
                <p:nvPr/>
              </p:nvSpPr>
              <p:spPr>
                <a:xfrm>
                  <a:off x="3809880" y="3936960"/>
                  <a:ext cx="245916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θ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ar</m:t>
                          </m:r>
                          <m:r>
                            <m:rPr>
                              <m:lit/>
                              <m:nor/>
                            </m:rPr>
                            <m:t xml:space="preserve">c length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radiu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" name="Group 31"/>
          <p:cNvGrpSpPr/>
          <p:nvPr/>
        </p:nvGrpSpPr>
        <p:grpSpPr>
          <a:xfrm>
            <a:off x="2128680" y="1828800"/>
            <a:ext cx="2560680" cy="1676520"/>
            <a:chOff x="2128680" y="1828800"/>
            <a:chExt cx="2560680" cy="1676520"/>
          </a:xfrm>
        </p:grpSpPr>
        <p:sp>
          <p:nvSpPr>
            <p:cNvPr id="99" name="Text Box 8"/>
            <p:cNvSpPr/>
            <p:nvPr/>
          </p:nvSpPr>
          <p:spPr>
            <a:xfrm>
              <a:off x="3034800" y="182880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Arial Rounded MT Bold"/>
                </a:rPr>
                <a:t>Arc leng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30"/>
            <p:cNvSpPr/>
            <p:nvPr/>
          </p:nvSpPr>
          <p:spPr>
            <a:xfrm>
              <a:off x="2128680" y="1838160"/>
              <a:ext cx="1514520" cy="166716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667160"/>
                <a:gd name="textAreaBottom" fmla="*/ 1667520 h 1667160"/>
              </a:gdLst>
              <a:ahLst/>
              <a:rect l="textAreaLeft" t="textAreaTop" r="textAreaRight" b="textAreaBottom"/>
              <a:pathLst>
                <a:path w="954" h="1050">
                  <a:moveTo>
                    <a:pt x="915" y="1050"/>
                  </a:moveTo>
                  <a:cubicBezTo>
                    <a:pt x="954" y="819"/>
                    <a:pt x="783" y="459"/>
                    <a:pt x="645" y="321"/>
                  </a:cubicBezTo>
                  <a:cubicBezTo>
                    <a:pt x="507" y="183"/>
                    <a:pt x="261" y="36"/>
                    <a:pt x="0" y="0"/>
                  </a:cubicBezTo>
                </a:path>
              </a:pathLst>
            </a:custGeom>
            <a:noFill/>
            <a:ln w="5724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" name="Oval 32"/>
          <p:cNvSpPr/>
          <p:nvPr/>
        </p:nvSpPr>
        <p:spPr>
          <a:xfrm>
            <a:off x="3456000" y="3357720"/>
            <a:ext cx="216000" cy="215640"/>
          </a:xfrm>
          <a:prstGeom prst="ellipse">
            <a:avLst/>
          </a:prstGeom>
          <a:solidFill>
            <a:srgbClr val="0066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0162 C -0.00087 -0.11792 -0.05955 -0.21295 -0.1533 -0.2363 E">
                                      <p:cBhvr>
                                        <p:cTn id="8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E10D-4CF4-414A-A35D-FA72F4BF6C4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6B49-1810-4890-BE22-FF1600195A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6360" y="4428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Direction of an angular vector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014480"/>
            <a:ext cx="8223480" cy="29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Not like linear vectors.  Angular vectors are perpendicular to the plane of motion.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Must use right hand rule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url fingers of rt. hand in the direction of rotation.</a:t>
            </a:r>
            <a:endParaRPr b="0" lang="en-US" sz="26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The direction of your extended thumb is the direction of the angular displacement vector.</a:t>
            </a:r>
            <a:endParaRPr b="0" lang="en-US" sz="26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07" name="Picture 7" descr="http://people.stfx.ca/jpowell/work/lab/Hand.gif"/>
          <p:cNvPicPr/>
          <p:nvPr/>
        </p:nvPicPr>
        <p:blipFill>
          <a:blip r:embed="rId1"/>
          <a:srcRect l="0" t="0" r="13891" b="16665"/>
          <a:stretch/>
        </p:blipFill>
        <p:spPr>
          <a:xfrm>
            <a:off x="1187280" y="4149720"/>
            <a:ext cx="1265400" cy="1224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http://t2.gstatic.com/images?q=tbn:ANd9GcRHNQIZ-XUn6IcZol-w6IYpKr7Fso9NSZRMq23M7mc5GI7zTm7B6WRs7_8nPA"/>
          <p:cNvPicPr/>
          <p:nvPr/>
        </p:nvPicPr>
        <p:blipFill>
          <a:blip r:embed="rId2"/>
          <a:srcRect l="0" t="31595" r="0" b="28070"/>
          <a:stretch/>
        </p:blipFill>
        <p:spPr>
          <a:xfrm>
            <a:off x="6408720" y="4365720"/>
            <a:ext cx="1871640" cy="960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http://t2.gstatic.com/images?q=tbn:ANd9GcRHNQIZ-XUn6IcZol-w6IYpKr7Fso9NSZRMq23M7mc5GI7zTm7B6WRs7_8nPA"/>
          <p:cNvPicPr/>
          <p:nvPr/>
        </p:nvPicPr>
        <p:blipFill>
          <a:blip r:embed="rId3"/>
          <a:srcRect l="0" t="28608" r="0" b="31058"/>
          <a:stretch/>
        </p:blipFill>
        <p:spPr>
          <a:xfrm>
            <a:off x="4427640" y="4365720"/>
            <a:ext cx="1895400" cy="97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http://people.stfx.ca/jpowell/work/lab/Hand.gif"/>
          <p:cNvPicPr/>
          <p:nvPr/>
        </p:nvPicPr>
        <p:blipFill>
          <a:blip r:embed="rId4"/>
          <a:srcRect l="13893" t="16667" r="0" b="0"/>
          <a:stretch/>
        </p:blipFill>
        <p:spPr>
          <a:xfrm>
            <a:off x="2592360" y="4149720"/>
            <a:ext cx="1265400" cy="1224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539640" y="5589720"/>
            <a:ext cx="8223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counterclockwis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finger curl means the thumb is pointing in the 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ositiv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direc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92F2-BB34-4CBC-A4B0-B7AF08D5DF5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3EFF-3E55-4B61-BBA7-F0DF647281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Link between Linear Distance and Angular Displacement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Radius is the link between linear and angular kinematics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f the </a:t>
            </a:r>
            <a:r>
              <a:rPr b="0" lang="en-US" sz="3000" spc="-1" strike="noStrike">
                <a:solidFill>
                  <a:srgbClr val="ffff00"/>
                </a:solidFill>
                <a:latin typeface="Arial Rounded MT Bold"/>
              </a:rPr>
              <a:t>angula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 Rounded MT Bold"/>
              </a:rPr>
              <a:t>displacement 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s measured in radians, then the </a:t>
            </a:r>
            <a:r>
              <a:rPr b="0" lang="en-US" sz="3000" spc="-1" strike="noStrike">
                <a:solidFill>
                  <a:srgbClr val="ffff00"/>
                </a:solidFill>
                <a:latin typeface="Arial Rounded MT Bold"/>
              </a:rPr>
              <a:t>linea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 Rounded MT Bold"/>
              </a:rPr>
              <a:t>distanc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(arc length) is equal to the angular displacement times the radius.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L 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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*r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4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0C32-9B69-43CD-9741-ABF9440F674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Slide Number Placeholder 6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3B15-53B2-49CD-B6E1-21D78380A0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Angular Velocity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 rate of change of angular displacement.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verage angular velocity equals angular displacement divided time.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143000" y="510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685800" y="44956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 symbol is </a:t>
            </a:r>
            <a:r>
              <a:rPr b="1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(omega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ngular velocity is a vector found using the rt. hand rul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9"/>
              <p:cNvSpPr txBox="1"/>
              <p:nvPr/>
            </p:nvSpPr>
            <p:spPr>
              <a:xfrm>
                <a:off x="1295280" y="3352680"/>
                <a:ext cx="16002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θ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B4C0-9843-4175-BD76-B9CEABDD397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8982-C996-4477-B0A0-CF77FC2057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Georgia"/>
              </a:rPr>
              <a:t>Angular Distance and Angular Speed</a:t>
            </a:r>
            <a:endParaRPr b="0" lang="en-US" sz="40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ngular distance and angular speed define a magnitude of rotation but no direction as they are scalar quantities.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7632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96AB-9376-47CD-914B-D0600981F23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6095880" y="6324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. Sasho MacKenzie - HK 37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868680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82FF-05B3-4D66-8F6F-6C692AB3A8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eorgia"/>
              </a:rPr>
              <a:t>Link between Linear and Angular Velocity</a:t>
            </a:r>
            <a:endParaRPr b="0" lang="en-US" sz="4400" spc="-1" strike="noStrike">
              <a:solidFill>
                <a:srgbClr val="ffcc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e link is radius.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ll points on a golf club undergo the same angular displacement and therefore the same angular velocity.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But they trace out different arc lengths based on their radius, therefore their linear velocities must be different.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8:51:37Z</dcterms:created>
  <dc:creator>College of Kinesiology</dc:creator>
  <dc:description/>
  <dc:language>en-US</dc:language>
  <cp:lastModifiedBy>maria</cp:lastModifiedBy>
  <dcterms:modified xsi:type="dcterms:W3CDTF">2015-10-20T10:03:43Z</dcterms:modified>
  <cp:revision>89</cp:revision>
  <dc:subject/>
  <dc:title>Angular Kinematics</dc:title>
</cp:coreProperties>
</file>